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7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4111200"/>
            <a:ext cx="817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332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48800" y="152352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1800" y="152352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411120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48800" y="411120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1800" y="411120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332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111200"/>
            <a:ext cx="817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7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4111200"/>
            <a:ext cx="817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332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48800" y="152352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11800" y="152352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411120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48800" y="411120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11800" y="4111200"/>
            <a:ext cx="2631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3320" y="411120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3320" y="1523520"/>
            <a:ext cx="39880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11200"/>
            <a:ext cx="817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70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228600" y="7048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61800" y="152280"/>
            <a:ext cx="8953560" cy="1143000"/>
          </a:xfrm>
          <a:prstGeom prst="roundRect">
            <a:avLst>
              <a:gd name="adj" fmla="val 18333"/>
            </a:avLst>
          </a:prstGeom>
          <a:solidFill>
            <a:srgbClr val="056ba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056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704880"/>
            <a:ext cx="0" cy="5924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-27720" y="66103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Book Antiqua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4782600" y="6621480"/>
            <a:ext cx="44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4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228600" y="6629400"/>
            <a:ext cx="8915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 flipH="1">
            <a:off x="228240" y="3638520"/>
            <a:ext cx="552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56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Documents and Settings\marc_mattson\My Documents\__Instructor Files\Schaefer\banner.jpg"/>
          <p:cNvPicPr/>
          <p:nvPr/>
        </p:nvPicPr>
        <p:blipFill>
          <a:blip r:embed="rId2"/>
          <a:stretch/>
        </p:blipFill>
        <p:spPr>
          <a:xfrm>
            <a:off x="1486080" y="19080"/>
            <a:ext cx="6172200" cy="257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-27720" y="66103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Book Antiqua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782600" y="6621480"/>
            <a:ext cx="44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4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43040" y="2971800"/>
            <a:ext cx="2647800" cy="13399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8600" y="3638520"/>
            <a:ext cx="0" cy="299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228600" y="6629400"/>
            <a:ext cx="8915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28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C:\Documents and Settings\marc_mattson\My Documents\__Instructor Files\Schaefer\Schaefer5e04le_adv copy.jpg"/>
          <p:cNvPicPr/>
          <p:nvPr/>
        </p:nvPicPr>
        <p:blipFill>
          <a:blip r:embed="rId1"/>
          <a:stretch/>
        </p:blipFill>
        <p:spPr>
          <a:xfrm>
            <a:off x="2162160" y="0"/>
            <a:ext cx="53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733400" y="2130480"/>
            <a:ext cx="66135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ski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. As societies become more complex, the emergence of surplus resources expands the possibilities for inequality in status, influence, and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77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Stratification Univers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79320" y="1504800"/>
          <a:ext cx="8258400" cy="4778640"/>
        </p:xfrm>
        <a:graphic>
          <a:graphicData uri="http://schemas.openxmlformats.org/drawingml/2006/table">
            <a:tbl>
              <a:tblPr/>
              <a:tblGrid>
                <a:gridCol w="1681200"/>
                <a:gridCol w="2433600"/>
                <a:gridCol w="2079720"/>
                <a:gridCol w="2063880"/>
              </a:tblGrid>
              <a:tr h="903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ctionalis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fli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enski’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stratification univers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stratification necessa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 level of stratification is necessary in order to ensure that key social positions are filled. But slavery and caste systems are unnecessa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fication is not necessary. In fact, it is a major source of societal tension and confli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hough stratification has been present in all societies, its nature and extent vary enormously depending on level of economic developm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5"/>
          <p:cNvSpPr/>
          <p:nvPr/>
        </p:nvSpPr>
        <p:spPr>
          <a:xfrm>
            <a:off x="2260440" y="1244520"/>
            <a:ext cx="60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pectives of Stratification Comp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5040" y="1890720"/>
          <a:ext cx="8001000" cy="45259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113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ctionalis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flic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enski’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s the basis for stratificat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etal-held valu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ling class valu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th societal-held and ruling class valu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there be changes over time in a society’s leve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stratificat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ee of stratification may change graduall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ee of stratification must be reduced so that society will become more equit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re will be evolutionary changes in degree of stratific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61"/>
          <p:cNvSpPr/>
          <p:nvPr/>
        </p:nvSpPr>
        <p:spPr>
          <a:xfrm>
            <a:off x="2449440" y="1474920"/>
            <a:ext cx="495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pectives of Stratification Comp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947880" y="139716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cial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4"/>
          <p:cNvSpPr/>
          <p:nvPr/>
        </p:nvSpPr>
        <p:spPr>
          <a:xfrm>
            <a:off x="1496880" y="2077920"/>
            <a:ext cx="6499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jectiv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method assigns class largely on the basi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ccupation      education      income      res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ccupations are rank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tig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respect and admiration an occupation ho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Este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s to the reputation that a specific person has earned within an occu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47880" y="139716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cial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496880" y="2205000"/>
            <a:ext cx="649944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and 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method focuses on an individual (rather than the family or household) as the basis of categorizing a woman’s position. A woman would be classified based on her own occupational status rather than that of her sp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sch85078_table9"/>
          <p:cNvPicPr/>
          <p:nvPr/>
        </p:nvPicPr>
        <p:blipFill>
          <a:blip r:embed="rId1"/>
          <a:stretch/>
        </p:blipFill>
        <p:spPr>
          <a:xfrm>
            <a:off x="3235320" y="1441440"/>
            <a:ext cx="3273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651040" y="6084720"/>
            <a:ext cx="455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9.1: Prestige Rankings of Occup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47880" y="139716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lth and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496880" y="2205000"/>
            <a:ext cx="64994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and wealth in the United States are distributed uneve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chest fifth of the population accounts for 50% of after-tax in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fifth of the population accounts for only 3% of after-tax in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\\BR_FILESERV\Commons\nate_perry\Finished Schaefer JPEGs\sch85078_0902.eps copy"/>
          <p:cNvPicPr/>
          <p:nvPr/>
        </p:nvPicPr>
        <p:blipFill>
          <a:blip r:embed="rId1"/>
          <a:stretch/>
        </p:blipFill>
        <p:spPr>
          <a:xfrm>
            <a:off x="3892680" y="1409760"/>
            <a:ext cx="1955520" cy="4654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079640" y="6218280"/>
            <a:ext cx="75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.3: Comparison of Distribution of Income and Wealth in the United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079640" y="6218280"/>
            <a:ext cx="75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.4: The Growing U.S. Income Gap, 1989-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\\BR_FILESERV\Commons\nate_perry\Finished Schaefer JPEGs\sch85078_0903.eps copy"/>
          <p:cNvPicPr/>
          <p:nvPr/>
        </p:nvPicPr>
        <p:blipFill>
          <a:blip r:embed="rId1"/>
          <a:stretch/>
        </p:blipFill>
        <p:spPr>
          <a:xfrm>
            <a:off x="2598840" y="1504800"/>
            <a:ext cx="4473360" cy="4557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079640" y="5599080"/>
            <a:ext cx="75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n Household Income by Race and Hispanic Origin: 1967 to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984600" y="1293840"/>
            <a:ext cx="7746480" cy="4324680"/>
            <a:chOff x="984600" y="1293840"/>
            <a:chExt cx="7746480" cy="4324680"/>
          </a:xfrm>
        </p:grpSpPr>
        <p:grpSp>
          <p:nvGrpSpPr>
            <p:cNvPr id="148" name="Group 6"/>
            <p:cNvGrpSpPr/>
            <p:nvPr/>
          </p:nvGrpSpPr>
          <p:grpSpPr>
            <a:xfrm>
              <a:off x="2195280" y="1574640"/>
              <a:ext cx="3933720" cy="3733920"/>
              <a:chOff x="2195280" y="1574640"/>
              <a:chExt cx="3933720" cy="3733920"/>
            </a:xfrm>
          </p:grpSpPr>
          <p:sp>
            <p:nvSpPr>
              <p:cNvPr id="149" name="Rectangle 7"/>
              <p:cNvSpPr/>
              <p:nvPr/>
            </p:nvSpPr>
            <p:spPr>
              <a:xfrm>
                <a:off x="2195280" y="1584360"/>
                <a:ext cx="152280" cy="372420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8"/>
              <p:cNvSpPr/>
              <p:nvPr/>
            </p:nvSpPr>
            <p:spPr>
              <a:xfrm>
                <a:off x="2937960" y="1574640"/>
                <a:ext cx="200160" cy="372456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9"/>
              <p:cNvSpPr/>
              <p:nvPr/>
            </p:nvSpPr>
            <p:spPr>
              <a:xfrm>
                <a:off x="4062240" y="1584360"/>
                <a:ext cx="104760" cy="372420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10"/>
              <p:cNvSpPr/>
              <p:nvPr/>
            </p:nvSpPr>
            <p:spPr>
              <a:xfrm>
                <a:off x="4338360" y="1584360"/>
                <a:ext cx="276120" cy="372420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6014880" y="1584360"/>
                <a:ext cx="114120" cy="372420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Rectangle 12"/>
            <p:cNvSpPr/>
            <p:nvPr/>
          </p:nvSpPr>
          <p:spPr>
            <a:xfrm>
              <a:off x="1633320" y="1574640"/>
              <a:ext cx="6343560" cy="374328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3"/>
            <p:cNvSpPr/>
            <p:nvPr/>
          </p:nvSpPr>
          <p:spPr>
            <a:xfrm>
              <a:off x="1633320" y="4699080"/>
              <a:ext cx="635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1633320" y="4079880"/>
              <a:ext cx="635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>
              <a:off x="1633320" y="3451320"/>
              <a:ext cx="635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1633320" y="2822400"/>
              <a:ext cx="635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1633320" y="2203560"/>
              <a:ext cx="635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1723680" y="522288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1918800" y="521820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21142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2953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24760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26571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>
              <a:off x="284760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30380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6"/>
            <p:cNvSpPr/>
            <p:nvPr/>
          </p:nvSpPr>
          <p:spPr>
            <a:xfrm>
              <a:off x="32284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34192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36050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>
              <a:off x="37904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397620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41619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434772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45334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>
              <a:off x="47192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>
              <a:off x="490500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>
              <a:off x="50907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>
              <a:off x="527652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>
              <a:off x="54622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9"/>
            <p:cNvSpPr/>
            <p:nvPr/>
          </p:nvSpPr>
          <p:spPr>
            <a:xfrm>
              <a:off x="56480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>
              <a:off x="583380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>
              <a:off x="60195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2"/>
            <p:cNvSpPr/>
            <p:nvPr/>
          </p:nvSpPr>
          <p:spPr>
            <a:xfrm>
              <a:off x="62146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43"/>
            <p:cNvSpPr/>
            <p:nvPr/>
          </p:nvSpPr>
          <p:spPr>
            <a:xfrm>
              <a:off x="64101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44"/>
            <p:cNvSpPr/>
            <p:nvPr/>
          </p:nvSpPr>
          <p:spPr>
            <a:xfrm>
              <a:off x="65908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5"/>
            <p:cNvSpPr/>
            <p:nvPr/>
          </p:nvSpPr>
          <p:spPr>
            <a:xfrm>
              <a:off x="67719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46"/>
            <p:cNvSpPr/>
            <p:nvPr/>
          </p:nvSpPr>
          <p:spPr>
            <a:xfrm>
              <a:off x="69530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47"/>
            <p:cNvSpPr/>
            <p:nvPr/>
          </p:nvSpPr>
          <p:spPr>
            <a:xfrm>
              <a:off x="714348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48"/>
            <p:cNvSpPr/>
            <p:nvPr/>
          </p:nvSpPr>
          <p:spPr>
            <a:xfrm>
              <a:off x="733392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9"/>
            <p:cNvSpPr/>
            <p:nvPr/>
          </p:nvSpPr>
          <p:spPr>
            <a:xfrm>
              <a:off x="752436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>
              <a:off x="771480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7905240" y="5213160"/>
              <a:ext cx="0" cy="9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52"/>
            <p:cNvSpPr/>
            <p:nvPr/>
          </p:nvSpPr>
          <p:spPr>
            <a:xfrm>
              <a:off x="7014960" y="1393920"/>
              <a:ext cx="276120" cy="114120"/>
            </a:xfrm>
            <a:prstGeom prst="rect">
              <a:avLst/>
            </a:prstGeom>
            <a:solidFill>
              <a:srgbClr val="99ffc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53"/>
            <p:cNvSpPr/>
            <p:nvPr/>
          </p:nvSpPr>
          <p:spPr>
            <a:xfrm>
              <a:off x="5462280" y="1841400"/>
              <a:ext cx="2428920" cy="781200"/>
            </a:xfrm>
            <a:custGeom>
              <a:avLst/>
              <a:gdLst/>
              <a:ahLst/>
              <a:rect l="l" t="t" r="r" b="b"/>
              <a:pathLst>
                <a:path w="1530" h="492">
                  <a:moveTo>
                    <a:pt x="0" y="390"/>
                  </a:moveTo>
                  <a:lnTo>
                    <a:pt x="120" y="468"/>
                  </a:lnTo>
                  <a:lnTo>
                    <a:pt x="246" y="324"/>
                  </a:lnTo>
                  <a:lnTo>
                    <a:pt x="366" y="300"/>
                  </a:lnTo>
                  <a:lnTo>
                    <a:pt x="480" y="480"/>
                  </a:lnTo>
                  <a:lnTo>
                    <a:pt x="594" y="444"/>
                  </a:lnTo>
                  <a:lnTo>
                    <a:pt x="732" y="492"/>
                  </a:lnTo>
                  <a:lnTo>
                    <a:pt x="846" y="414"/>
                  </a:lnTo>
                  <a:lnTo>
                    <a:pt x="954" y="474"/>
                  </a:lnTo>
                  <a:lnTo>
                    <a:pt x="1134" y="354"/>
                  </a:lnTo>
                  <a:lnTo>
                    <a:pt x="1314" y="318"/>
                  </a:lnTo>
                  <a:lnTo>
                    <a:pt x="1530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54"/>
            <p:cNvSpPr/>
            <p:nvPr/>
          </p:nvSpPr>
          <p:spPr>
            <a:xfrm>
              <a:off x="1747440" y="2565360"/>
              <a:ext cx="6143760" cy="799920"/>
            </a:xfrm>
            <a:custGeom>
              <a:avLst/>
              <a:gdLst/>
              <a:ahLst/>
              <a:rect l="l" t="t" r="r" b="b"/>
              <a:pathLst>
                <a:path w="3870" h="504">
                  <a:moveTo>
                    <a:pt x="0" y="504"/>
                  </a:moveTo>
                  <a:lnTo>
                    <a:pt x="234" y="384"/>
                  </a:lnTo>
                  <a:lnTo>
                    <a:pt x="462" y="432"/>
                  </a:lnTo>
                  <a:lnTo>
                    <a:pt x="570" y="354"/>
                  </a:lnTo>
                  <a:lnTo>
                    <a:pt x="708" y="336"/>
                  </a:lnTo>
                  <a:lnTo>
                    <a:pt x="912" y="408"/>
                  </a:lnTo>
                  <a:lnTo>
                    <a:pt x="1074" y="366"/>
                  </a:lnTo>
                  <a:lnTo>
                    <a:pt x="1182" y="372"/>
                  </a:lnTo>
                  <a:lnTo>
                    <a:pt x="1302" y="294"/>
                  </a:lnTo>
                  <a:lnTo>
                    <a:pt x="1398" y="282"/>
                  </a:lnTo>
                  <a:lnTo>
                    <a:pt x="1668" y="360"/>
                  </a:lnTo>
                  <a:lnTo>
                    <a:pt x="1890" y="366"/>
                  </a:lnTo>
                  <a:lnTo>
                    <a:pt x="2034" y="294"/>
                  </a:lnTo>
                  <a:lnTo>
                    <a:pt x="2298" y="222"/>
                  </a:lnTo>
                  <a:lnTo>
                    <a:pt x="2568" y="180"/>
                  </a:lnTo>
                  <a:lnTo>
                    <a:pt x="2808" y="240"/>
                  </a:lnTo>
                  <a:lnTo>
                    <a:pt x="3030" y="276"/>
                  </a:lnTo>
                  <a:lnTo>
                    <a:pt x="3324" y="204"/>
                  </a:lnTo>
                  <a:lnTo>
                    <a:pt x="3678" y="84"/>
                  </a:lnTo>
                  <a:lnTo>
                    <a:pt x="3810" y="36"/>
                  </a:lnTo>
                  <a:lnTo>
                    <a:pt x="3870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55"/>
            <p:cNvSpPr/>
            <p:nvPr/>
          </p:nvSpPr>
          <p:spPr>
            <a:xfrm>
              <a:off x="2661840" y="3232080"/>
              <a:ext cx="5238720" cy="571680"/>
            </a:xfrm>
            <a:custGeom>
              <a:avLst/>
              <a:gdLst/>
              <a:ahLst/>
              <a:rect l="l" t="t" r="r" b="b"/>
              <a:pathLst>
                <a:path w="3300" h="360">
                  <a:moveTo>
                    <a:pt x="0" y="264"/>
                  </a:moveTo>
                  <a:lnTo>
                    <a:pt x="258" y="270"/>
                  </a:lnTo>
                  <a:lnTo>
                    <a:pt x="372" y="360"/>
                  </a:lnTo>
                  <a:lnTo>
                    <a:pt x="624" y="282"/>
                  </a:lnTo>
                  <a:lnTo>
                    <a:pt x="762" y="204"/>
                  </a:lnTo>
                  <a:lnTo>
                    <a:pt x="828" y="204"/>
                  </a:lnTo>
                  <a:lnTo>
                    <a:pt x="960" y="282"/>
                  </a:lnTo>
                  <a:lnTo>
                    <a:pt x="1074" y="246"/>
                  </a:lnTo>
                  <a:lnTo>
                    <a:pt x="1200" y="318"/>
                  </a:lnTo>
                  <a:lnTo>
                    <a:pt x="1416" y="294"/>
                  </a:lnTo>
                  <a:lnTo>
                    <a:pt x="1536" y="282"/>
                  </a:lnTo>
                  <a:lnTo>
                    <a:pt x="1818" y="222"/>
                  </a:lnTo>
                  <a:lnTo>
                    <a:pt x="2004" y="168"/>
                  </a:lnTo>
                  <a:lnTo>
                    <a:pt x="2334" y="264"/>
                  </a:lnTo>
                  <a:lnTo>
                    <a:pt x="2586" y="276"/>
                  </a:lnTo>
                  <a:lnTo>
                    <a:pt x="2688" y="336"/>
                  </a:lnTo>
                  <a:lnTo>
                    <a:pt x="3078" y="168"/>
                  </a:lnTo>
                  <a:lnTo>
                    <a:pt x="3300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56"/>
            <p:cNvSpPr/>
            <p:nvPr/>
          </p:nvSpPr>
          <p:spPr>
            <a:xfrm>
              <a:off x="2661840" y="2479680"/>
              <a:ext cx="5229360" cy="714240"/>
            </a:xfrm>
            <a:custGeom>
              <a:avLst/>
              <a:gdLst/>
              <a:ahLst/>
              <a:rect l="l" t="t" r="r" b="b"/>
              <a:pathLst>
                <a:path w="3294" h="450">
                  <a:moveTo>
                    <a:pt x="0" y="384"/>
                  </a:moveTo>
                  <a:lnTo>
                    <a:pt x="126" y="354"/>
                  </a:lnTo>
                  <a:lnTo>
                    <a:pt x="342" y="450"/>
                  </a:lnTo>
                  <a:lnTo>
                    <a:pt x="492" y="408"/>
                  </a:lnTo>
                  <a:lnTo>
                    <a:pt x="582" y="396"/>
                  </a:lnTo>
                  <a:lnTo>
                    <a:pt x="702" y="324"/>
                  </a:lnTo>
                  <a:lnTo>
                    <a:pt x="840" y="306"/>
                  </a:lnTo>
                  <a:lnTo>
                    <a:pt x="1038" y="372"/>
                  </a:lnTo>
                  <a:lnTo>
                    <a:pt x="1308" y="378"/>
                  </a:lnTo>
                  <a:lnTo>
                    <a:pt x="1494" y="312"/>
                  </a:lnTo>
                  <a:lnTo>
                    <a:pt x="1674" y="240"/>
                  </a:lnTo>
                  <a:lnTo>
                    <a:pt x="1950" y="192"/>
                  </a:lnTo>
                  <a:lnTo>
                    <a:pt x="2082" y="204"/>
                  </a:lnTo>
                  <a:lnTo>
                    <a:pt x="2244" y="258"/>
                  </a:lnTo>
                  <a:lnTo>
                    <a:pt x="2586" y="252"/>
                  </a:lnTo>
                  <a:lnTo>
                    <a:pt x="2730" y="198"/>
                  </a:lnTo>
                  <a:lnTo>
                    <a:pt x="3120" y="72"/>
                  </a:lnTo>
                  <a:lnTo>
                    <a:pt x="3294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57"/>
            <p:cNvSpPr/>
            <p:nvPr/>
          </p:nvSpPr>
          <p:spPr>
            <a:xfrm>
              <a:off x="1747440" y="3403440"/>
              <a:ext cx="6143760" cy="771480"/>
            </a:xfrm>
            <a:custGeom>
              <a:avLst/>
              <a:gdLst/>
              <a:ahLst/>
              <a:rect l="l" t="t" r="r" b="b"/>
              <a:pathLst>
                <a:path w="3870" h="486">
                  <a:moveTo>
                    <a:pt x="0" y="486"/>
                  </a:moveTo>
                  <a:lnTo>
                    <a:pt x="258" y="372"/>
                  </a:lnTo>
                  <a:lnTo>
                    <a:pt x="408" y="408"/>
                  </a:lnTo>
                  <a:lnTo>
                    <a:pt x="486" y="444"/>
                  </a:lnTo>
                  <a:lnTo>
                    <a:pt x="744" y="360"/>
                  </a:lnTo>
                  <a:lnTo>
                    <a:pt x="918" y="414"/>
                  </a:lnTo>
                  <a:lnTo>
                    <a:pt x="1176" y="414"/>
                  </a:lnTo>
                  <a:lnTo>
                    <a:pt x="1290" y="330"/>
                  </a:lnTo>
                  <a:lnTo>
                    <a:pt x="1416" y="348"/>
                  </a:lnTo>
                  <a:lnTo>
                    <a:pt x="1722" y="426"/>
                  </a:lnTo>
                  <a:lnTo>
                    <a:pt x="1902" y="414"/>
                  </a:lnTo>
                  <a:lnTo>
                    <a:pt x="2130" y="324"/>
                  </a:lnTo>
                  <a:lnTo>
                    <a:pt x="2490" y="336"/>
                  </a:lnTo>
                  <a:lnTo>
                    <a:pt x="2586" y="270"/>
                  </a:lnTo>
                  <a:lnTo>
                    <a:pt x="2994" y="354"/>
                  </a:lnTo>
                  <a:lnTo>
                    <a:pt x="3444" y="216"/>
                  </a:lnTo>
                  <a:lnTo>
                    <a:pt x="3546" y="174"/>
                  </a:lnTo>
                  <a:lnTo>
                    <a:pt x="3648" y="192"/>
                  </a:lnTo>
                  <a:lnTo>
                    <a:pt x="3870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58"/>
            <p:cNvSpPr/>
            <p:nvPr/>
          </p:nvSpPr>
          <p:spPr>
            <a:xfrm>
              <a:off x="144864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59"/>
            <p:cNvSpPr/>
            <p:nvPr/>
          </p:nvSpPr>
          <p:spPr>
            <a:xfrm>
              <a:off x="203904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60"/>
            <p:cNvSpPr/>
            <p:nvPr/>
          </p:nvSpPr>
          <p:spPr>
            <a:xfrm>
              <a:off x="262008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1"/>
            <p:cNvSpPr/>
            <p:nvPr/>
          </p:nvSpPr>
          <p:spPr>
            <a:xfrm>
              <a:off x="314388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62"/>
            <p:cNvSpPr/>
            <p:nvPr/>
          </p:nvSpPr>
          <p:spPr>
            <a:xfrm>
              <a:off x="370584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63"/>
            <p:cNvSpPr/>
            <p:nvPr/>
          </p:nvSpPr>
          <p:spPr>
            <a:xfrm>
              <a:off x="426780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4"/>
            <p:cNvSpPr/>
            <p:nvPr/>
          </p:nvSpPr>
          <p:spPr>
            <a:xfrm>
              <a:off x="482040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5"/>
            <p:cNvSpPr/>
            <p:nvPr/>
          </p:nvSpPr>
          <p:spPr>
            <a:xfrm>
              <a:off x="542052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66"/>
            <p:cNvSpPr/>
            <p:nvPr/>
          </p:nvSpPr>
          <p:spPr>
            <a:xfrm>
              <a:off x="595368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67"/>
            <p:cNvSpPr/>
            <p:nvPr/>
          </p:nvSpPr>
          <p:spPr>
            <a:xfrm>
              <a:off x="650628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68"/>
            <p:cNvSpPr/>
            <p:nvPr/>
          </p:nvSpPr>
          <p:spPr>
            <a:xfrm>
              <a:off x="704916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69"/>
            <p:cNvSpPr/>
            <p:nvPr/>
          </p:nvSpPr>
          <p:spPr>
            <a:xfrm>
              <a:off x="7630200" y="53420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0"/>
            <p:cNvSpPr/>
            <p:nvPr/>
          </p:nvSpPr>
          <p:spPr>
            <a:xfrm>
              <a:off x="1365840" y="5170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71"/>
            <p:cNvSpPr/>
            <p:nvPr/>
          </p:nvSpPr>
          <p:spPr>
            <a:xfrm>
              <a:off x="984600" y="455148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72"/>
            <p:cNvSpPr/>
            <p:nvPr/>
          </p:nvSpPr>
          <p:spPr>
            <a:xfrm>
              <a:off x="984600" y="393228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73"/>
            <p:cNvSpPr/>
            <p:nvPr/>
          </p:nvSpPr>
          <p:spPr>
            <a:xfrm>
              <a:off x="984600" y="32940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4"/>
            <p:cNvSpPr/>
            <p:nvPr/>
          </p:nvSpPr>
          <p:spPr>
            <a:xfrm>
              <a:off x="984600" y="266544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75"/>
            <p:cNvSpPr/>
            <p:nvPr/>
          </p:nvSpPr>
          <p:spPr>
            <a:xfrm>
              <a:off x="984600" y="20556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76"/>
            <p:cNvSpPr/>
            <p:nvPr/>
          </p:nvSpPr>
          <p:spPr>
            <a:xfrm>
              <a:off x="984600" y="14461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77"/>
            <p:cNvSpPr/>
            <p:nvPr/>
          </p:nvSpPr>
          <p:spPr>
            <a:xfrm>
              <a:off x="1536840" y="1293840"/>
              <a:ext cx="18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in 2000 doll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78"/>
            <p:cNvSpPr/>
            <p:nvPr/>
          </p:nvSpPr>
          <p:spPr>
            <a:xfrm>
              <a:off x="7241400" y="13032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9"/>
            <p:cNvSpPr/>
            <p:nvPr/>
          </p:nvSpPr>
          <p:spPr>
            <a:xfrm>
              <a:off x="7986240" y="174132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55,5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80"/>
            <p:cNvSpPr/>
            <p:nvPr/>
          </p:nvSpPr>
          <p:spPr>
            <a:xfrm>
              <a:off x="7995600" y="227484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45,9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81"/>
            <p:cNvSpPr/>
            <p:nvPr/>
          </p:nvSpPr>
          <p:spPr>
            <a:xfrm>
              <a:off x="7995600" y="246528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44,2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2"/>
            <p:cNvSpPr/>
            <p:nvPr/>
          </p:nvSpPr>
          <p:spPr>
            <a:xfrm>
              <a:off x="7995600" y="308448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33,44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83"/>
            <p:cNvSpPr/>
            <p:nvPr/>
          </p:nvSpPr>
          <p:spPr>
            <a:xfrm>
              <a:off x="7995600" y="328464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30,43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84"/>
            <p:cNvSpPr/>
            <p:nvPr/>
          </p:nvSpPr>
          <p:spPr>
            <a:xfrm>
              <a:off x="5663880" y="1779480"/>
              <a:ext cx="20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ian and Pacific Isla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85"/>
            <p:cNvSpPr/>
            <p:nvPr/>
          </p:nvSpPr>
          <p:spPr>
            <a:xfrm>
              <a:off x="4624920" y="2522520"/>
              <a:ext cx="159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ite, not Hispa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86"/>
            <p:cNvSpPr/>
            <p:nvPr/>
          </p:nvSpPr>
          <p:spPr>
            <a:xfrm>
              <a:off x="6437880" y="30938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spanic origi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87"/>
            <p:cNvSpPr/>
            <p:nvPr/>
          </p:nvSpPr>
          <p:spPr>
            <a:xfrm>
              <a:off x="1988280" y="290340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8"/>
            <p:cNvSpPr/>
            <p:nvPr/>
          </p:nvSpPr>
          <p:spPr>
            <a:xfrm>
              <a:off x="1958760" y="403704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89"/>
            <p:cNvSpPr/>
            <p:nvPr/>
          </p:nvSpPr>
          <p:spPr>
            <a:xfrm>
              <a:off x="7671960" y="191772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90"/>
            <p:cNvSpPr/>
            <p:nvPr/>
          </p:nvSpPr>
          <p:spPr>
            <a:xfrm>
              <a:off x="6214680" y="2679480"/>
              <a:ext cx="95400" cy="1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91"/>
            <p:cNvSpPr/>
            <p:nvPr/>
          </p:nvSpPr>
          <p:spPr>
            <a:xfrm>
              <a:off x="7691040" y="325116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92"/>
            <p:cNvSpPr/>
            <p:nvPr/>
          </p:nvSpPr>
          <p:spPr>
            <a:xfrm flipH="1">
              <a:off x="1995120" y="3051000"/>
              <a:ext cx="7632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93"/>
            <p:cNvSpPr/>
            <p:nvPr/>
          </p:nvSpPr>
          <p:spPr>
            <a:xfrm>
              <a:off x="1956960" y="4098960"/>
              <a:ext cx="8568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 Box 94"/>
          <p:cNvSpPr/>
          <p:nvPr/>
        </p:nvSpPr>
        <p:spPr>
          <a:xfrm>
            <a:off x="914400" y="5956200"/>
            <a:ext cx="773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ource: Carmen DeNavas-Walt, Robert W. Cleveland, and Marc L. Oemer. 2001. Figure 1 in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oney Income in the United States: 2000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. Current Population Reports Series P60-213. Washington, DC: U.S. Government Printing Office. Also accessible at http://www.census.gov/hhes/www/income00.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066840"/>
            <a:ext cx="24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56ba3"/>
                </a:solidFill>
                <a:latin typeface="Arial"/>
              </a:rPr>
              <a:t>9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7280" y="4343400"/>
            <a:ext cx="803916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STRATIFICATION IN THE UNITED STATES AND WORLDW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93"/>
          <p:cNvSpPr/>
          <p:nvPr/>
        </p:nvSpPr>
        <p:spPr>
          <a:xfrm>
            <a:off x="914400" y="5956200"/>
            <a:ext cx="773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ource: Office of the President 2000: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Economic Report of the President: Transmitted to the Congres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, February 2000. Washington, DC: U.S. Government Printing Office, p. 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94"/>
          <p:cNvGrpSpPr/>
          <p:nvPr/>
        </p:nvGrpSpPr>
        <p:grpSpPr>
          <a:xfrm>
            <a:off x="899280" y="1604880"/>
            <a:ext cx="7722000" cy="3755160"/>
            <a:chOff x="899280" y="1604880"/>
            <a:chExt cx="7722000" cy="3755160"/>
          </a:xfrm>
        </p:grpSpPr>
        <p:sp>
          <p:nvSpPr>
            <p:cNvPr id="240" name="Rectangle 95"/>
            <p:cNvSpPr/>
            <p:nvPr/>
          </p:nvSpPr>
          <p:spPr>
            <a:xfrm>
              <a:off x="1287360" y="1736640"/>
              <a:ext cx="7333920" cy="32385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96"/>
            <p:cNvSpPr/>
            <p:nvPr/>
          </p:nvSpPr>
          <p:spPr>
            <a:xfrm>
              <a:off x="1287360" y="4127400"/>
              <a:ext cx="7333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97"/>
            <p:cNvSpPr/>
            <p:nvPr/>
          </p:nvSpPr>
          <p:spPr>
            <a:xfrm>
              <a:off x="2020680" y="2008080"/>
              <a:ext cx="399600" cy="21049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98"/>
            <p:cNvSpPr/>
            <p:nvPr/>
          </p:nvSpPr>
          <p:spPr>
            <a:xfrm>
              <a:off x="3487680" y="2360520"/>
              <a:ext cx="399600" cy="17524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99"/>
            <p:cNvSpPr/>
            <p:nvPr/>
          </p:nvSpPr>
          <p:spPr>
            <a:xfrm>
              <a:off x="4964040" y="2331720"/>
              <a:ext cx="399600" cy="1781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00"/>
            <p:cNvSpPr/>
            <p:nvPr/>
          </p:nvSpPr>
          <p:spPr>
            <a:xfrm>
              <a:off x="6445080" y="2531880"/>
              <a:ext cx="399600" cy="15811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01"/>
            <p:cNvSpPr/>
            <p:nvPr/>
          </p:nvSpPr>
          <p:spPr>
            <a:xfrm>
              <a:off x="7930800" y="2265120"/>
              <a:ext cx="399960" cy="18478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02"/>
            <p:cNvSpPr/>
            <p:nvPr/>
          </p:nvSpPr>
          <p:spPr>
            <a:xfrm>
              <a:off x="1582560" y="4146480"/>
              <a:ext cx="418680" cy="637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03"/>
            <p:cNvSpPr/>
            <p:nvPr/>
          </p:nvSpPr>
          <p:spPr>
            <a:xfrm>
              <a:off x="3049560" y="4146480"/>
              <a:ext cx="418680" cy="247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4"/>
            <p:cNvSpPr/>
            <p:nvPr/>
          </p:nvSpPr>
          <p:spPr>
            <a:xfrm>
              <a:off x="4539960" y="4055760"/>
              <a:ext cx="41868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05"/>
            <p:cNvSpPr/>
            <p:nvPr/>
          </p:nvSpPr>
          <p:spPr>
            <a:xfrm>
              <a:off x="6021360" y="3798720"/>
              <a:ext cx="41868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6"/>
            <p:cNvSpPr/>
            <p:nvPr/>
          </p:nvSpPr>
          <p:spPr>
            <a:xfrm>
              <a:off x="7511760" y="3036600"/>
              <a:ext cx="418680" cy="10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07"/>
            <p:cNvSpPr/>
            <p:nvPr/>
          </p:nvSpPr>
          <p:spPr>
            <a:xfrm>
              <a:off x="1286640" y="505296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ttom quint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108"/>
            <p:cNvSpPr/>
            <p:nvPr/>
          </p:nvSpPr>
          <p:spPr>
            <a:xfrm>
              <a:off x="2930760" y="5052960"/>
              <a:ext cx="109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quint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09"/>
            <p:cNvSpPr/>
            <p:nvPr/>
          </p:nvSpPr>
          <p:spPr>
            <a:xfrm>
              <a:off x="4414680" y="505296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quint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10"/>
            <p:cNvSpPr/>
            <p:nvPr/>
          </p:nvSpPr>
          <p:spPr>
            <a:xfrm>
              <a:off x="5922000" y="505296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quint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11"/>
            <p:cNvSpPr/>
            <p:nvPr/>
          </p:nvSpPr>
          <p:spPr>
            <a:xfrm>
              <a:off x="7316280" y="5052960"/>
              <a:ext cx="118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p quint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12"/>
            <p:cNvSpPr/>
            <p:nvPr/>
          </p:nvSpPr>
          <p:spPr>
            <a:xfrm>
              <a:off x="899280" y="47764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13"/>
            <p:cNvSpPr/>
            <p:nvPr/>
          </p:nvSpPr>
          <p:spPr>
            <a:xfrm>
              <a:off x="958320" y="3985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14"/>
            <p:cNvSpPr/>
            <p:nvPr/>
          </p:nvSpPr>
          <p:spPr>
            <a:xfrm>
              <a:off x="95832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15"/>
            <p:cNvSpPr/>
            <p:nvPr/>
          </p:nvSpPr>
          <p:spPr>
            <a:xfrm>
              <a:off x="958320" y="239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16"/>
            <p:cNvSpPr/>
            <p:nvPr/>
          </p:nvSpPr>
          <p:spPr>
            <a:xfrm>
              <a:off x="958320" y="160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17"/>
            <p:cNvSpPr/>
            <p:nvPr/>
          </p:nvSpPr>
          <p:spPr>
            <a:xfrm>
              <a:off x="7187400" y="18046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3-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18"/>
            <p:cNvSpPr/>
            <p:nvPr/>
          </p:nvSpPr>
          <p:spPr>
            <a:xfrm>
              <a:off x="6949080" y="23954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73-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19"/>
            <p:cNvSpPr/>
            <p:nvPr/>
          </p:nvSpPr>
          <p:spPr>
            <a:xfrm>
              <a:off x="1299960" y="3355920"/>
              <a:ext cx="50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20"/>
            <p:cNvSpPr/>
            <p:nvPr/>
          </p:nvSpPr>
          <p:spPr>
            <a:xfrm>
              <a:off x="1293480" y="2543040"/>
              <a:ext cx="50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21"/>
            <p:cNvSpPr/>
            <p:nvPr/>
          </p:nvSpPr>
          <p:spPr>
            <a:xfrm>
              <a:off x="7297560" y="2666880"/>
              <a:ext cx="317160" cy="311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22"/>
            <p:cNvSpPr/>
            <p:nvPr/>
          </p:nvSpPr>
          <p:spPr>
            <a:xfrm>
              <a:off x="7532640" y="2076120"/>
              <a:ext cx="348840" cy="165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123"/>
          <p:cNvSpPr/>
          <p:nvPr/>
        </p:nvSpPr>
        <p:spPr>
          <a:xfrm>
            <a:off x="1446120" y="5452920"/>
            <a:ext cx="665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in Mean Real Family Income by Quin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4"/>
          <p:cNvSpPr/>
          <p:nvPr/>
        </p:nvSpPr>
        <p:spPr>
          <a:xfrm>
            <a:off x="903240" y="1446120"/>
            <a:ext cx="53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1130400" y="2111400"/>
            <a:ext cx="7215120" cy="43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one out of every nine people in the United States lives below the poverty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istinguish different types of pover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Absolute pover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minimum level of subsistence that no family should liv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Relative pover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tandard by which people are defined as being disadvantaged when compared to the nation as a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sch85078_0904"/>
          <p:cNvPicPr/>
          <p:nvPr/>
        </p:nvPicPr>
        <p:blipFill>
          <a:blip r:embed="rId1"/>
          <a:stretch/>
        </p:blipFill>
        <p:spPr>
          <a:xfrm>
            <a:off x="1440000" y="1582560"/>
            <a:ext cx="6852960" cy="40719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895400" y="5881680"/>
            <a:ext cx="650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9.5: Absolute Poverty in Selected Industrial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5884920" y="6267600"/>
            <a:ext cx="30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865080" y="1379520"/>
            <a:ext cx="54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214280" y="2178000"/>
            <a:ext cx="64659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poor in the United States?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m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l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ity of the poor live in rural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7" descr="sch85078_table9"/>
          <p:cNvPicPr/>
          <p:nvPr/>
        </p:nvPicPr>
        <p:blipFill>
          <a:blip r:embed="rId1"/>
          <a:stretch/>
        </p:blipFill>
        <p:spPr>
          <a:xfrm>
            <a:off x="2762280" y="1461960"/>
            <a:ext cx="405612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2344680" y="6100920"/>
            <a:ext cx="536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9.2: Who Are the Poor in the United Sta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344680" y="5656320"/>
            <a:ext cx="536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Poor and Poverty Rate: 1959 to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7"/>
          <p:cNvGrpSpPr/>
          <p:nvPr/>
        </p:nvGrpSpPr>
        <p:grpSpPr>
          <a:xfrm>
            <a:off x="738720" y="1270080"/>
            <a:ext cx="8282520" cy="3953160"/>
            <a:chOff x="738720" y="1270080"/>
            <a:chExt cx="8282520" cy="3953160"/>
          </a:xfrm>
        </p:grpSpPr>
        <p:grpSp>
          <p:nvGrpSpPr>
            <p:cNvPr id="294" name="Group 8"/>
            <p:cNvGrpSpPr/>
            <p:nvPr/>
          </p:nvGrpSpPr>
          <p:grpSpPr>
            <a:xfrm>
              <a:off x="1224000" y="1551240"/>
              <a:ext cx="5105520" cy="3390840"/>
              <a:chOff x="1224000" y="1551240"/>
              <a:chExt cx="5105520" cy="3390840"/>
            </a:xfrm>
          </p:grpSpPr>
          <p:sp>
            <p:nvSpPr>
              <p:cNvPr id="295" name="Rectangle 9"/>
              <p:cNvSpPr/>
              <p:nvPr/>
            </p:nvSpPr>
            <p:spPr>
              <a:xfrm>
                <a:off x="1224000" y="1551240"/>
                <a:ext cx="190440" cy="339084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10"/>
              <p:cNvSpPr/>
              <p:nvPr/>
            </p:nvSpPr>
            <p:spPr>
              <a:xfrm>
                <a:off x="2862360" y="1551240"/>
                <a:ext cx="171360" cy="339084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11"/>
              <p:cNvSpPr/>
              <p:nvPr/>
            </p:nvSpPr>
            <p:spPr>
              <a:xfrm>
                <a:off x="3510000" y="1551240"/>
                <a:ext cx="219240" cy="339084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4491000" y="1551240"/>
                <a:ext cx="104760" cy="339084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3"/>
              <p:cNvSpPr/>
              <p:nvPr/>
            </p:nvSpPr>
            <p:spPr>
              <a:xfrm>
                <a:off x="4753080" y="1551240"/>
                <a:ext cx="252360" cy="339084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14"/>
              <p:cNvSpPr/>
              <p:nvPr/>
            </p:nvSpPr>
            <p:spPr>
              <a:xfrm>
                <a:off x="6239160" y="1551240"/>
                <a:ext cx="90360" cy="339084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15"/>
            <p:cNvSpPr/>
            <p:nvPr/>
          </p:nvSpPr>
          <p:spPr>
            <a:xfrm>
              <a:off x="1062000" y="1560600"/>
              <a:ext cx="6896160" cy="338148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>
              <a:off x="1062000" y="192276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1062000" y="231300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1062000" y="270360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1062000" y="306576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1062000" y="343728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1"/>
            <p:cNvSpPr/>
            <p:nvPr/>
          </p:nvSpPr>
          <p:spPr>
            <a:xfrm>
              <a:off x="1062000" y="381816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>
              <a:off x="1062000" y="419904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>
              <a:off x="1062000" y="4570560"/>
              <a:ext cx="68961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113832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5"/>
            <p:cNvSpPr/>
            <p:nvPr/>
          </p:nvSpPr>
          <p:spPr>
            <a:xfrm>
              <a:off x="13050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6"/>
            <p:cNvSpPr/>
            <p:nvPr/>
          </p:nvSpPr>
          <p:spPr>
            <a:xfrm>
              <a:off x="147168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7"/>
            <p:cNvSpPr/>
            <p:nvPr/>
          </p:nvSpPr>
          <p:spPr>
            <a:xfrm>
              <a:off x="1638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8"/>
            <p:cNvSpPr/>
            <p:nvPr/>
          </p:nvSpPr>
          <p:spPr>
            <a:xfrm>
              <a:off x="180504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9"/>
            <p:cNvSpPr/>
            <p:nvPr/>
          </p:nvSpPr>
          <p:spPr>
            <a:xfrm>
              <a:off x="197172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0"/>
            <p:cNvSpPr/>
            <p:nvPr/>
          </p:nvSpPr>
          <p:spPr>
            <a:xfrm>
              <a:off x="213372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1"/>
            <p:cNvSpPr/>
            <p:nvPr/>
          </p:nvSpPr>
          <p:spPr>
            <a:xfrm>
              <a:off x="2295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2"/>
            <p:cNvSpPr/>
            <p:nvPr/>
          </p:nvSpPr>
          <p:spPr>
            <a:xfrm>
              <a:off x="2457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3"/>
            <p:cNvSpPr/>
            <p:nvPr/>
          </p:nvSpPr>
          <p:spPr>
            <a:xfrm>
              <a:off x="2619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4"/>
            <p:cNvSpPr/>
            <p:nvPr/>
          </p:nvSpPr>
          <p:spPr>
            <a:xfrm>
              <a:off x="2781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5"/>
            <p:cNvSpPr/>
            <p:nvPr/>
          </p:nvSpPr>
          <p:spPr>
            <a:xfrm>
              <a:off x="2943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6"/>
            <p:cNvSpPr/>
            <p:nvPr/>
          </p:nvSpPr>
          <p:spPr>
            <a:xfrm>
              <a:off x="31050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7"/>
            <p:cNvSpPr/>
            <p:nvPr/>
          </p:nvSpPr>
          <p:spPr>
            <a:xfrm>
              <a:off x="327168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8"/>
            <p:cNvSpPr/>
            <p:nvPr/>
          </p:nvSpPr>
          <p:spPr>
            <a:xfrm>
              <a:off x="34383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39"/>
            <p:cNvSpPr/>
            <p:nvPr/>
          </p:nvSpPr>
          <p:spPr>
            <a:xfrm>
              <a:off x="360504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40"/>
            <p:cNvSpPr/>
            <p:nvPr/>
          </p:nvSpPr>
          <p:spPr>
            <a:xfrm>
              <a:off x="377208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41"/>
            <p:cNvSpPr/>
            <p:nvPr/>
          </p:nvSpPr>
          <p:spPr>
            <a:xfrm>
              <a:off x="39387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42"/>
            <p:cNvSpPr/>
            <p:nvPr/>
          </p:nvSpPr>
          <p:spPr>
            <a:xfrm>
              <a:off x="41004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43"/>
            <p:cNvSpPr/>
            <p:nvPr/>
          </p:nvSpPr>
          <p:spPr>
            <a:xfrm>
              <a:off x="42624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44"/>
            <p:cNvSpPr/>
            <p:nvPr/>
          </p:nvSpPr>
          <p:spPr>
            <a:xfrm>
              <a:off x="44244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45"/>
            <p:cNvSpPr/>
            <p:nvPr/>
          </p:nvSpPr>
          <p:spPr>
            <a:xfrm>
              <a:off x="45864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6"/>
            <p:cNvSpPr/>
            <p:nvPr/>
          </p:nvSpPr>
          <p:spPr>
            <a:xfrm>
              <a:off x="474804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47"/>
            <p:cNvSpPr/>
            <p:nvPr/>
          </p:nvSpPr>
          <p:spPr>
            <a:xfrm>
              <a:off x="491004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48"/>
            <p:cNvSpPr/>
            <p:nvPr/>
          </p:nvSpPr>
          <p:spPr>
            <a:xfrm>
              <a:off x="507204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49"/>
            <p:cNvSpPr/>
            <p:nvPr/>
          </p:nvSpPr>
          <p:spPr>
            <a:xfrm>
              <a:off x="523872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50"/>
            <p:cNvSpPr/>
            <p:nvPr/>
          </p:nvSpPr>
          <p:spPr>
            <a:xfrm>
              <a:off x="54054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51"/>
            <p:cNvSpPr/>
            <p:nvPr/>
          </p:nvSpPr>
          <p:spPr>
            <a:xfrm>
              <a:off x="557208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52"/>
            <p:cNvSpPr/>
            <p:nvPr/>
          </p:nvSpPr>
          <p:spPr>
            <a:xfrm>
              <a:off x="57387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53"/>
            <p:cNvSpPr/>
            <p:nvPr/>
          </p:nvSpPr>
          <p:spPr>
            <a:xfrm>
              <a:off x="590544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54"/>
            <p:cNvSpPr/>
            <p:nvPr/>
          </p:nvSpPr>
          <p:spPr>
            <a:xfrm>
              <a:off x="607212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55"/>
            <p:cNvSpPr/>
            <p:nvPr/>
          </p:nvSpPr>
          <p:spPr>
            <a:xfrm>
              <a:off x="62388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56"/>
            <p:cNvSpPr/>
            <p:nvPr/>
          </p:nvSpPr>
          <p:spPr>
            <a:xfrm>
              <a:off x="640548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57"/>
            <p:cNvSpPr/>
            <p:nvPr/>
          </p:nvSpPr>
          <p:spPr>
            <a:xfrm>
              <a:off x="65721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58"/>
            <p:cNvSpPr/>
            <p:nvPr/>
          </p:nvSpPr>
          <p:spPr>
            <a:xfrm>
              <a:off x="67341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9"/>
            <p:cNvSpPr/>
            <p:nvPr/>
          </p:nvSpPr>
          <p:spPr>
            <a:xfrm>
              <a:off x="68961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60"/>
            <p:cNvSpPr/>
            <p:nvPr/>
          </p:nvSpPr>
          <p:spPr>
            <a:xfrm>
              <a:off x="70581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61"/>
            <p:cNvSpPr/>
            <p:nvPr/>
          </p:nvSpPr>
          <p:spPr>
            <a:xfrm>
              <a:off x="72198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62"/>
            <p:cNvSpPr/>
            <p:nvPr/>
          </p:nvSpPr>
          <p:spPr>
            <a:xfrm>
              <a:off x="73818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63"/>
            <p:cNvSpPr/>
            <p:nvPr/>
          </p:nvSpPr>
          <p:spPr>
            <a:xfrm>
              <a:off x="754380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64"/>
            <p:cNvSpPr/>
            <p:nvPr/>
          </p:nvSpPr>
          <p:spPr>
            <a:xfrm>
              <a:off x="771048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65"/>
            <p:cNvSpPr/>
            <p:nvPr/>
          </p:nvSpPr>
          <p:spPr>
            <a:xfrm>
              <a:off x="7877160" y="4851720"/>
              <a:ext cx="0" cy="9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6"/>
            <p:cNvSpPr/>
            <p:nvPr/>
          </p:nvSpPr>
          <p:spPr>
            <a:xfrm>
              <a:off x="6915240" y="1351080"/>
              <a:ext cx="299880" cy="133560"/>
            </a:xfrm>
            <a:prstGeom prst="rect">
              <a:avLst/>
            </a:prstGeom>
            <a:solidFill>
              <a:srgbClr val="99ffc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67"/>
            <p:cNvSpPr/>
            <p:nvPr/>
          </p:nvSpPr>
          <p:spPr>
            <a:xfrm>
              <a:off x="1147680" y="1941840"/>
              <a:ext cx="6724800" cy="1276200"/>
            </a:xfrm>
            <a:custGeom>
              <a:avLst/>
              <a:gdLst/>
              <a:ahLst/>
              <a:rect l="l" t="t" r="r" b="b"/>
              <a:pathLst>
                <a:path w="4236" h="804">
                  <a:moveTo>
                    <a:pt x="0" y="36"/>
                  </a:moveTo>
                  <a:lnTo>
                    <a:pt x="96" y="0"/>
                  </a:lnTo>
                  <a:lnTo>
                    <a:pt x="180" y="6"/>
                  </a:lnTo>
                  <a:lnTo>
                    <a:pt x="318" y="54"/>
                  </a:lnTo>
                  <a:lnTo>
                    <a:pt x="420" y="174"/>
                  </a:lnTo>
                  <a:lnTo>
                    <a:pt x="528" y="180"/>
                  </a:lnTo>
                  <a:lnTo>
                    <a:pt x="696" y="480"/>
                  </a:lnTo>
                  <a:lnTo>
                    <a:pt x="750" y="558"/>
                  </a:lnTo>
                  <a:lnTo>
                    <a:pt x="834" y="576"/>
                  </a:lnTo>
                  <a:lnTo>
                    <a:pt x="1032" y="762"/>
                  </a:lnTo>
                  <a:lnTo>
                    <a:pt x="1164" y="684"/>
                  </a:lnTo>
                  <a:lnTo>
                    <a:pt x="1254" y="666"/>
                  </a:lnTo>
                  <a:lnTo>
                    <a:pt x="1374" y="750"/>
                  </a:lnTo>
                  <a:lnTo>
                    <a:pt x="1458" y="804"/>
                  </a:lnTo>
                  <a:lnTo>
                    <a:pt x="1536" y="792"/>
                  </a:lnTo>
                  <a:lnTo>
                    <a:pt x="1662" y="654"/>
                  </a:lnTo>
                  <a:lnTo>
                    <a:pt x="1824" y="726"/>
                  </a:lnTo>
                  <a:lnTo>
                    <a:pt x="1986" y="744"/>
                  </a:lnTo>
                  <a:lnTo>
                    <a:pt x="2148" y="546"/>
                  </a:lnTo>
                  <a:lnTo>
                    <a:pt x="2382" y="246"/>
                  </a:lnTo>
                  <a:lnTo>
                    <a:pt x="2484" y="204"/>
                  </a:lnTo>
                  <a:lnTo>
                    <a:pt x="2616" y="306"/>
                  </a:lnTo>
                  <a:lnTo>
                    <a:pt x="2826" y="366"/>
                  </a:lnTo>
                  <a:lnTo>
                    <a:pt x="2994" y="390"/>
                  </a:lnTo>
                  <a:lnTo>
                    <a:pt x="3126" y="354"/>
                  </a:lnTo>
                  <a:lnTo>
                    <a:pt x="3210" y="342"/>
                  </a:lnTo>
                  <a:lnTo>
                    <a:pt x="3312" y="246"/>
                  </a:lnTo>
                  <a:lnTo>
                    <a:pt x="3414" y="96"/>
                  </a:lnTo>
                  <a:lnTo>
                    <a:pt x="3534" y="30"/>
                  </a:lnTo>
                  <a:lnTo>
                    <a:pt x="3696" y="132"/>
                  </a:lnTo>
                  <a:lnTo>
                    <a:pt x="3720" y="174"/>
                  </a:lnTo>
                  <a:lnTo>
                    <a:pt x="3840" y="162"/>
                  </a:lnTo>
                  <a:lnTo>
                    <a:pt x="3972" y="216"/>
                  </a:lnTo>
                  <a:lnTo>
                    <a:pt x="4056" y="276"/>
                  </a:lnTo>
                  <a:lnTo>
                    <a:pt x="4140" y="360"/>
                  </a:lnTo>
                  <a:lnTo>
                    <a:pt x="4236" y="42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68"/>
            <p:cNvSpPr/>
            <p:nvPr/>
          </p:nvSpPr>
          <p:spPr>
            <a:xfrm>
              <a:off x="1138320" y="3256200"/>
              <a:ext cx="6743520" cy="866880"/>
            </a:xfrm>
            <a:custGeom>
              <a:avLst/>
              <a:gdLst/>
              <a:ahLst/>
              <a:rect l="l" t="t" r="r" b="b"/>
              <a:pathLst>
                <a:path w="4248" h="546">
                  <a:moveTo>
                    <a:pt x="0" y="0"/>
                  </a:moveTo>
                  <a:lnTo>
                    <a:pt x="204" y="24"/>
                  </a:lnTo>
                  <a:lnTo>
                    <a:pt x="348" y="78"/>
                  </a:lnTo>
                  <a:lnTo>
                    <a:pt x="432" y="150"/>
                  </a:lnTo>
                  <a:lnTo>
                    <a:pt x="528" y="168"/>
                  </a:lnTo>
                  <a:lnTo>
                    <a:pt x="708" y="336"/>
                  </a:lnTo>
                  <a:lnTo>
                    <a:pt x="756" y="378"/>
                  </a:lnTo>
                  <a:lnTo>
                    <a:pt x="834" y="396"/>
                  </a:lnTo>
                  <a:lnTo>
                    <a:pt x="1026" y="498"/>
                  </a:lnTo>
                  <a:lnTo>
                    <a:pt x="1134" y="474"/>
                  </a:lnTo>
                  <a:lnTo>
                    <a:pt x="1272" y="468"/>
                  </a:lnTo>
                  <a:lnTo>
                    <a:pt x="1470" y="546"/>
                  </a:lnTo>
                  <a:lnTo>
                    <a:pt x="1554" y="546"/>
                  </a:lnTo>
                  <a:lnTo>
                    <a:pt x="1686" y="474"/>
                  </a:lnTo>
                  <a:lnTo>
                    <a:pt x="1938" y="522"/>
                  </a:lnTo>
                  <a:lnTo>
                    <a:pt x="2082" y="510"/>
                  </a:lnTo>
                  <a:lnTo>
                    <a:pt x="2364" y="372"/>
                  </a:lnTo>
                  <a:lnTo>
                    <a:pt x="2490" y="330"/>
                  </a:lnTo>
                  <a:lnTo>
                    <a:pt x="2688" y="396"/>
                  </a:lnTo>
                  <a:lnTo>
                    <a:pt x="2952" y="444"/>
                  </a:lnTo>
                  <a:lnTo>
                    <a:pt x="3282" y="432"/>
                  </a:lnTo>
                  <a:lnTo>
                    <a:pt x="3438" y="366"/>
                  </a:lnTo>
                  <a:lnTo>
                    <a:pt x="3522" y="342"/>
                  </a:lnTo>
                  <a:lnTo>
                    <a:pt x="3732" y="414"/>
                  </a:lnTo>
                  <a:lnTo>
                    <a:pt x="3828" y="420"/>
                  </a:lnTo>
                  <a:lnTo>
                    <a:pt x="4050" y="462"/>
                  </a:lnTo>
                  <a:lnTo>
                    <a:pt x="4248" y="52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69"/>
            <p:cNvSpPr/>
            <p:nvPr/>
          </p:nvSpPr>
          <p:spPr>
            <a:xfrm>
              <a:off x="88668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70"/>
            <p:cNvSpPr/>
            <p:nvPr/>
          </p:nvSpPr>
          <p:spPr>
            <a:xfrm>
              <a:off x="170604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6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71"/>
            <p:cNvSpPr/>
            <p:nvPr/>
          </p:nvSpPr>
          <p:spPr>
            <a:xfrm>
              <a:off x="251712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72"/>
            <p:cNvSpPr/>
            <p:nvPr/>
          </p:nvSpPr>
          <p:spPr>
            <a:xfrm>
              <a:off x="333648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73"/>
            <p:cNvSpPr/>
            <p:nvPr/>
          </p:nvSpPr>
          <p:spPr>
            <a:xfrm>
              <a:off x="415548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74"/>
            <p:cNvSpPr/>
            <p:nvPr/>
          </p:nvSpPr>
          <p:spPr>
            <a:xfrm>
              <a:off x="498420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75"/>
            <p:cNvSpPr/>
            <p:nvPr/>
          </p:nvSpPr>
          <p:spPr>
            <a:xfrm>
              <a:off x="581292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76"/>
            <p:cNvSpPr/>
            <p:nvPr/>
          </p:nvSpPr>
          <p:spPr>
            <a:xfrm>
              <a:off x="663192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77"/>
            <p:cNvSpPr/>
            <p:nvPr/>
          </p:nvSpPr>
          <p:spPr>
            <a:xfrm>
              <a:off x="7605000" y="49467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78"/>
            <p:cNvSpPr/>
            <p:nvPr/>
          </p:nvSpPr>
          <p:spPr>
            <a:xfrm>
              <a:off x="823320" y="4775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79"/>
            <p:cNvSpPr/>
            <p:nvPr/>
          </p:nvSpPr>
          <p:spPr>
            <a:xfrm>
              <a:off x="823320" y="4413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0"/>
            <p:cNvSpPr/>
            <p:nvPr/>
          </p:nvSpPr>
          <p:spPr>
            <a:xfrm>
              <a:off x="738720" y="4032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81"/>
            <p:cNvSpPr/>
            <p:nvPr/>
          </p:nvSpPr>
          <p:spPr>
            <a:xfrm>
              <a:off x="738720" y="3670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82"/>
            <p:cNvSpPr/>
            <p:nvPr/>
          </p:nvSpPr>
          <p:spPr>
            <a:xfrm>
              <a:off x="738720" y="3279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83"/>
            <p:cNvSpPr/>
            <p:nvPr/>
          </p:nvSpPr>
          <p:spPr>
            <a:xfrm>
              <a:off x="738720" y="28990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84"/>
            <p:cNvSpPr/>
            <p:nvPr/>
          </p:nvSpPr>
          <p:spPr>
            <a:xfrm>
              <a:off x="738720" y="2527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85"/>
            <p:cNvSpPr/>
            <p:nvPr/>
          </p:nvSpPr>
          <p:spPr>
            <a:xfrm>
              <a:off x="738720" y="2165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86"/>
            <p:cNvSpPr/>
            <p:nvPr/>
          </p:nvSpPr>
          <p:spPr>
            <a:xfrm>
              <a:off x="738720" y="17654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7"/>
            <p:cNvSpPr/>
            <p:nvPr/>
          </p:nvSpPr>
          <p:spPr>
            <a:xfrm>
              <a:off x="738720" y="13845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88"/>
            <p:cNvSpPr/>
            <p:nvPr/>
          </p:nvSpPr>
          <p:spPr>
            <a:xfrm>
              <a:off x="975240" y="1270080"/>
              <a:ext cx="28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bers in millions, rates in per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89"/>
            <p:cNvSpPr/>
            <p:nvPr/>
          </p:nvSpPr>
          <p:spPr>
            <a:xfrm>
              <a:off x="7167240" y="127008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90"/>
            <p:cNvSpPr/>
            <p:nvPr/>
          </p:nvSpPr>
          <p:spPr>
            <a:xfrm>
              <a:off x="4872240" y="2022840"/>
              <a:ext cx="152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mber in pover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91"/>
            <p:cNvSpPr/>
            <p:nvPr/>
          </p:nvSpPr>
          <p:spPr>
            <a:xfrm>
              <a:off x="4813920" y="394668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verty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92"/>
            <p:cNvSpPr/>
            <p:nvPr/>
          </p:nvSpPr>
          <p:spPr>
            <a:xfrm>
              <a:off x="7949160" y="247032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1.1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93"/>
            <p:cNvSpPr/>
            <p:nvPr/>
          </p:nvSpPr>
          <p:spPr>
            <a:xfrm>
              <a:off x="7947360" y="397512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.3 per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Text Box 94"/>
          <p:cNvSpPr/>
          <p:nvPr/>
        </p:nvSpPr>
        <p:spPr>
          <a:xfrm>
            <a:off x="1063800" y="5175360"/>
            <a:ext cx="749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ote: The data points represent the midpoints of the respective years. The latest</a:t>
            </a:r>
            <a:br>
              <a:rPr sz="1200"/>
            </a:b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cession began in July 1990 and ended in March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95"/>
          <p:cNvSpPr/>
          <p:nvPr/>
        </p:nvSpPr>
        <p:spPr>
          <a:xfrm>
            <a:off x="465120" y="6091200"/>
            <a:ext cx="867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ource: Figure 1 in Joseph Dalaker. 2001.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Poverty in the United States: 2000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. Current Population Reports Series P60-214. Washington, DC: U.S. Government Printing Office. Also accessible at http://www.census.gov/hhes/www/poverty00.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95"/>
          <p:cNvGrpSpPr/>
          <p:nvPr/>
        </p:nvGrpSpPr>
        <p:grpSpPr>
          <a:xfrm>
            <a:off x="858600" y="1330200"/>
            <a:ext cx="8047440" cy="3889440"/>
            <a:chOff x="858600" y="1330200"/>
            <a:chExt cx="8047440" cy="3889440"/>
          </a:xfrm>
        </p:grpSpPr>
        <p:grpSp>
          <p:nvGrpSpPr>
            <p:cNvPr id="386" name="Group 96"/>
            <p:cNvGrpSpPr/>
            <p:nvPr/>
          </p:nvGrpSpPr>
          <p:grpSpPr>
            <a:xfrm>
              <a:off x="858600" y="1330200"/>
              <a:ext cx="8047440" cy="3889440"/>
              <a:chOff x="858600" y="1330200"/>
              <a:chExt cx="8047440" cy="3889440"/>
            </a:xfrm>
          </p:grpSpPr>
          <p:grpSp>
            <p:nvGrpSpPr>
              <p:cNvPr id="387" name="Group 97"/>
              <p:cNvGrpSpPr/>
              <p:nvPr/>
            </p:nvGrpSpPr>
            <p:grpSpPr>
              <a:xfrm>
                <a:off x="1361880" y="1622160"/>
                <a:ext cx="4964040" cy="3314160"/>
                <a:chOff x="1361880" y="1622160"/>
                <a:chExt cx="4964040" cy="3314160"/>
              </a:xfrm>
            </p:grpSpPr>
            <p:sp>
              <p:nvSpPr>
                <p:cNvPr id="388" name="Rectangle 98"/>
                <p:cNvSpPr/>
                <p:nvPr/>
              </p:nvSpPr>
              <p:spPr>
                <a:xfrm>
                  <a:off x="1361880" y="1622160"/>
                  <a:ext cx="152280" cy="3314160"/>
                </a:xfrm>
                <a:prstGeom prst="rect">
                  <a:avLst/>
                </a:prstGeom>
                <a:solidFill>
                  <a:srgbClr val="99ffcc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99"/>
                <p:cNvSpPr/>
                <p:nvPr/>
              </p:nvSpPr>
              <p:spPr>
                <a:xfrm>
                  <a:off x="2923920" y="1622160"/>
                  <a:ext cx="142920" cy="3314160"/>
                </a:xfrm>
                <a:prstGeom prst="rect">
                  <a:avLst/>
                </a:prstGeom>
                <a:solidFill>
                  <a:srgbClr val="99ffcc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Rectangle 100"/>
                <p:cNvSpPr/>
                <p:nvPr/>
              </p:nvSpPr>
              <p:spPr>
                <a:xfrm>
                  <a:off x="3524040" y="1622160"/>
                  <a:ext cx="209520" cy="3314160"/>
                </a:xfrm>
                <a:prstGeom prst="rect">
                  <a:avLst/>
                </a:prstGeom>
                <a:solidFill>
                  <a:srgbClr val="99ffcc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101"/>
                <p:cNvSpPr/>
                <p:nvPr/>
              </p:nvSpPr>
              <p:spPr>
                <a:xfrm>
                  <a:off x="4505040" y="1622160"/>
                  <a:ext cx="100080" cy="3314160"/>
                </a:xfrm>
                <a:prstGeom prst="rect">
                  <a:avLst/>
                </a:prstGeom>
                <a:solidFill>
                  <a:srgbClr val="99ffcc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102"/>
                <p:cNvSpPr/>
                <p:nvPr/>
              </p:nvSpPr>
              <p:spPr>
                <a:xfrm>
                  <a:off x="4754160" y="1622160"/>
                  <a:ext cx="238320" cy="3314160"/>
                </a:xfrm>
                <a:prstGeom prst="rect">
                  <a:avLst/>
                </a:prstGeom>
                <a:solidFill>
                  <a:srgbClr val="99ffcc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Rectangle 103"/>
                <p:cNvSpPr/>
                <p:nvPr/>
              </p:nvSpPr>
              <p:spPr>
                <a:xfrm>
                  <a:off x="6192720" y="1622160"/>
                  <a:ext cx="133200" cy="3314160"/>
                </a:xfrm>
                <a:prstGeom prst="rect">
                  <a:avLst/>
                </a:prstGeom>
                <a:solidFill>
                  <a:srgbClr val="99ffcc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Rectangle 104"/>
              <p:cNvSpPr/>
              <p:nvPr/>
            </p:nvSpPr>
            <p:spPr>
              <a:xfrm>
                <a:off x="1160280" y="1615680"/>
                <a:ext cx="6711840" cy="3331800"/>
              </a:xfrm>
              <a:prstGeom prst="rect">
                <a:avLst/>
              </a:prstGeom>
              <a:noFill/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105"/>
              <p:cNvSpPr/>
              <p:nvPr/>
            </p:nvSpPr>
            <p:spPr>
              <a:xfrm>
                <a:off x="1168200" y="189360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106"/>
              <p:cNvSpPr/>
              <p:nvPr/>
            </p:nvSpPr>
            <p:spPr>
              <a:xfrm>
                <a:off x="1169640" y="216648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107"/>
              <p:cNvSpPr/>
              <p:nvPr/>
            </p:nvSpPr>
            <p:spPr>
              <a:xfrm>
                <a:off x="1171440" y="243972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108"/>
              <p:cNvSpPr/>
              <p:nvPr/>
            </p:nvSpPr>
            <p:spPr>
              <a:xfrm>
                <a:off x="1172880" y="271260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109"/>
              <p:cNvSpPr/>
              <p:nvPr/>
            </p:nvSpPr>
            <p:spPr>
              <a:xfrm>
                <a:off x="1166400" y="3001680"/>
                <a:ext cx="66963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110"/>
              <p:cNvSpPr/>
              <p:nvPr/>
            </p:nvSpPr>
            <p:spPr>
              <a:xfrm>
                <a:off x="1160280" y="329040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1"/>
              <p:cNvSpPr/>
              <p:nvPr/>
            </p:nvSpPr>
            <p:spPr>
              <a:xfrm>
                <a:off x="1161720" y="356364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12"/>
              <p:cNvSpPr/>
              <p:nvPr/>
            </p:nvSpPr>
            <p:spPr>
              <a:xfrm>
                <a:off x="1163520" y="383652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13"/>
              <p:cNvSpPr/>
              <p:nvPr/>
            </p:nvSpPr>
            <p:spPr>
              <a:xfrm>
                <a:off x="1164960" y="411768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14"/>
              <p:cNvSpPr/>
              <p:nvPr/>
            </p:nvSpPr>
            <p:spPr>
              <a:xfrm>
                <a:off x="1166400" y="4398480"/>
                <a:ext cx="66963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115"/>
              <p:cNvSpPr/>
              <p:nvPr/>
            </p:nvSpPr>
            <p:spPr>
              <a:xfrm>
                <a:off x="1168200" y="4679640"/>
                <a:ext cx="6696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116"/>
              <p:cNvSpPr/>
              <p:nvPr/>
            </p:nvSpPr>
            <p:spPr>
              <a:xfrm>
                <a:off x="118080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117"/>
              <p:cNvSpPr/>
              <p:nvPr/>
            </p:nvSpPr>
            <p:spPr>
              <a:xfrm>
                <a:off x="14047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118"/>
              <p:cNvSpPr/>
              <p:nvPr/>
            </p:nvSpPr>
            <p:spPr>
              <a:xfrm>
                <a:off x="15616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119"/>
              <p:cNvSpPr/>
              <p:nvPr/>
            </p:nvSpPr>
            <p:spPr>
              <a:xfrm>
                <a:off x="17283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120"/>
              <p:cNvSpPr/>
              <p:nvPr/>
            </p:nvSpPr>
            <p:spPr>
              <a:xfrm>
                <a:off x="189540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121"/>
              <p:cNvSpPr/>
              <p:nvPr/>
            </p:nvSpPr>
            <p:spPr>
              <a:xfrm>
                <a:off x="20523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122"/>
              <p:cNvSpPr/>
              <p:nvPr/>
            </p:nvSpPr>
            <p:spPr>
              <a:xfrm>
                <a:off x="22096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123"/>
              <p:cNvSpPr/>
              <p:nvPr/>
            </p:nvSpPr>
            <p:spPr>
              <a:xfrm>
                <a:off x="23666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124"/>
              <p:cNvSpPr/>
              <p:nvPr/>
            </p:nvSpPr>
            <p:spPr>
              <a:xfrm>
                <a:off x="25239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125"/>
              <p:cNvSpPr/>
              <p:nvPr/>
            </p:nvSpPr>
            <p:spPr>
              <a:xfrm>
                <a:off x="26809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126"/>
              <p:cNvSpPr/>
              <p:nvPr/>
            </p:nvSpPr>
            <p:spPr>
              <a:xfrm>
                <a:off x="28382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127"/>
              <p:cNvSpPr/>
              <p:nvPr/>
            </p:nvSpPr>
            <p:spPr>
              <a:xfrm>
                <a:off x="299520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128"/>
              <p:cNvSpPr/>
              <p:nvPr/>
            </p:nvSpPr>
            <p:spPr>
              <a:xfrm>
                <a:off x="31525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Line 129"/>
              <p:cNvSpPr/>
              <p:nvPr/>
            </p:nvSpPr>
            <p:spPr>
              <a:xfrm>
                <a:off x="33238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Line 130"/>
              <p:cNvSpPr/>
              <p:nvPr/>
            </p:nvSpPr>
            <p:spPr>
              <a:xfrm>
                <a:off x="34905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Line 131"/>
              <p:cNvSpPr/>
              <p:nvPr/>
            </p:nvSpPr>
            <p:spPr>
              <a:xfrm>
                <a:off x="36478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32"/>
              <p:cNvSpPr/>
              <p:nvPr/>
            </p:nvSpPr>
            <p:spPr>
              <a:xfrm>
                <a:off x="38048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133"/>
              <p:cNvSpPr/>
              <p:nvPr/>
            </p:nvSpPr>
            <p:spPr>
              <a:xfrm>
                <a:off x="39621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134"/>
              <p:cNvSpPr/>
              <p:nvPr/>
            </p:nvSpPr>
            <p:spPr>
              <a:xfrm>
                <a:off x="41194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35"/>
              <p:cNvSpPr/>
              <p:nvPr/>
            </p:nvSpPr>
            <p:spPr>
              <a:xfrm>
                <a:off x="42764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136"/>
              <p:cNvSpPr/>
              <p:nvPr/>
            </p:nvSpPr>
            <p:spPr>
              <a:xfrm>
                <a:off x="44384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137"/>
              <p:cNvSpPr/>
              <p:nvPr/>
            </p:nvSpPr>
            <p:spPr>
              <a:xfrm>
                <a:off x="46004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138"/>
              <p:cNvSpPr/>
              <p:nvPr/>
            </p:nvSpPr>
            <p:spPr>
              <a:xfrm>
                <a:off x="47620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139"/>
              <p:cNvSpPr/>
              <p:nvPr/>
            </p:nvSpPr>
            <p:spPr>
              <a:xfrm>
                <a:off x="49240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140"/>
              <p:cNvSpPr/>
              <p:nvPr/>
            </p:nvSpPr>
            <p:spPr>
              <a:xfrm>
                <a:off x="50860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141"/>
              <p:cNvSpPr/>
              <p:nvPr/>
            </p:nvSpPr>
            <p:spPr>
              <a:xfrm>
                <a:off x="524340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142"/>
              <p:cNvSpPr/>
              <p:nvPr/>
            </p:nvSpPr>
            <p:spPr>
              <a:xfrm>
                <a:off x="54003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Line 143"/>
              <p:cNvSpPr/>
              <p:nvPr/>
            </p:nvSpPr>
            <p:spPr>
              <a:xfrm>
                <a:off x="55576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144"/>
              <p:cNvSpPr/>
              <p:nvPr/>
            </p:nvSpPr>
            <p:spPr>
              <a:xfrm>
                <a:off x="57196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5"/>
              <p:cNvSpPr/>
              <p:nvPr/>
            </p:nvSpPr>
            <p:spPr>
              <a:xfrm>
                <a:off x="58813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146"/>
              <p:cNvSpPr/>
              <p:nvPr/>
            </p:nvSpPr>
            <p:spPr>
              <a:xfrm>
                <a:off x="60433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147"/>
              <p:cNvSpPr/>
              <p:nvPr/>
            </p:nvSpPr>
            <p:spPr>
              <a:xfrm>
                <a:off x="62006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148"/>
              <p:cNvSpPr/>
              <p:nvPr/>
            </p:nvSpPr>
            <p:spPr>
              <a:xfrm>
                <a:off x="635760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Line 149"/>
              <p:cNvSpPr/>
              <p:nvPr/>
            </p:nvSpPr>
            <p:spPr>
              <a:xfrm>
                <a:off x="65149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50"/>
              <p:cNvSpPr/>
              <p:nvPr/>
            </p:nvSpPr>
            <p:spPr>
              <a:xfrm>
                <a:off x="66718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151"/>
              <p:cNvSpPr/>
              <p:nvPr/>
            </p:nvSpPr>
            <p:spPr>
              <a:xfrm>
                <a:off x="682920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152"/>
              <p:cNvSpPr/>
              <p:nvPr/>
            </p:nvSpPr>
            <p:spPr>
              <a:xfrm>
                <a:off x="69861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53"/>
              <p:cNvSpPr/>
              <p:nvPr/>
            </p:nvSpPr>
            <p:spPr>
              <a:xfrm>
                <a:off x="715788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154"/>
              <p:cNvSpPr/>
              <p:nvPr/>
            </p:nvSpPr>
            <p:spPr>
              <a:xfrm>
                <a:off x="732456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155"/>
              <p:cNvSpPr/>
              <p:nvPr/>
            </p:nvSpPr>
            <p:spPr>
              <a:xfrm>
                <a:off x="748152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156"/>
              <p:cNvSpPr/>
              <p:nvPr/>
            </p:nvSpPr>
            <p:spPr>
              <a:xfrm>
                <a:off x="76388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157"/>
              <p:cNvSpPr/>
              <p:nvPr/>
            </p:nvSpPr>
            <p:spPr>
              <a:xfrm>
                <a:off x="7786440" y="4831920"/>
                <a:ext cx="0" cy="114120"/>
              </a:xfrm>
              <a:prstGeom prst="line">
                <a:avLst/>
              </a:prstGeom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58"/>
              <p:cNvSpPr/>
              <p:nvPr/>
            </p:nvSpPr>
            <p:spPr>
              <a:xfrm>
                <a:off x="6859440" y="1402920"/>
                <a:ext cx="276120" cy="123480"/>
              </a:xfrm>
              <a:prstGeom prst="rect">
                <a:avLst/>
              </a:prstGeom>
              <a:solidFill>
                <a:srgbClr val="99ffcc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159"/>
              <p:cNvSpPr/>
              <p:nvPr/>
            </p:nvSpPr>
            <p:spPr>
              <a:xfrm>
                <a:off x="1266480" y="1869840"/>
                <a:ext cx="990720" cy="685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160"/>
              <p:cNvSpPr/>
              <p:nvPr/>
            </p:nvSpPr>
            <p:spPr>
              <a:xfrm>
                <a:off x="2323800" y="2584080"/>
                <a:ext cx="5477040" cy="1123560"/>
              </a:xfrm>
              <a:custGeom>
                <a:avLst/>
                <a:gdLst/>
                <a:ahLst/>
                <a:rect l="l" t="t" r="r" b="b"/>
                <a:pathLst>
                  <a:path w="3450" h="708">
                    <a:moveTo>
                      <a:pt x="0" y="0"/>
                    </a:moveTo>
                    <a:lnTo>
                      <a:pt x="126" y="114"/>
                    </a:lnTo>
                    <a:lnTo>
                      <a:pt x="252" y="300"/>
                    </a:lnTo>
                    <a:lnTo>
                      <a:pt x="324" y="360"/>
                    </a:lnTo>
                    <a:lnTo>
                      <a:pt x="450" y="312"/>
                    </a:lnTo>
                    <a:lnTo>
                      <a:pt x="558" y="360"/>
                    </a:lnTo>
                    <a:lnTo>
                      <a:pt x="642" y="312"/>
                    </a:lnTo>
                    <a:lnTo>
                      <a:pt x="810" y="414"/>
                    </a:lnTo>
                    <a:lnTo>
                      <a:pt x="936" y="390"/>
                    </a:lnTo>
                    <a:lnTo>
                      <a:pt x="1146" y="384"/>
                    </a:lnTo>
                    <a:lnTo>
                      <a:pt x="1260" y="408"/>
                    </a:lnTo>
                    <a:lnTo>
                      <a:pt x="1512" y="312"/>
                    </a:lnTo>
                    <a:lnTo>
                      <a:pt x="1638" y="222"/>
                    </a:lnTo>
                    <a:lnTo>
                      <a:pt x="1752" y="222"/>
                    </a:lnTo>
                    <a:lnTo>
                      <a:pt x="1950" y="384"/>
                    </a:lnTo>
                    <a:lnTo>
                      <a:pt x="2070" y="390"/>
                    </a:lnTo>
                    <a:lnTo>
                      <a:pt x="2142" y="336"/>
                    </a:lnTo>
                    <a:lnTo>
                      <a:pt x="2364" y="426"/>
                    </a:lnTo>
                    <a:lnTo>
                      <a:pt x="2574" y="354"/>
                    </a:lnTo>
                    <a:lnTo>
                      <a:pt x="2724" y="312"/>
                    </a:lnTo>
                    <a:lnTo>
                      <a:pt x="2832" y="396"/>
                    </a:lnTo>
                    <a:lnTo>
                      <a:pt x="2976" y="468"/>
                    </a:lnTo>
                    <a:lnTo>
                      <a:pt x="3144" y="546"/>
                    </a:lnTo>
                    <a:lnTo>
                      <a:pt x="3258" y="558"/>
                    </a:lnTo>
                    <a:lnTo>
                      <a:pt x="3450" y="708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161"/>
              <p:cNvSpPr/>
              <p:nvPr/>
            </p:nvSpPr>
            <p:spPr>
              <a:xfrm>
                <a:off x="5733720" y="3974760"/>
                <a:ext cx="2067120" cy="361440"/>
              </a:xfrm>
              <a:custGeom>
                <a:avLst/>
                <a:gdLst/>
                <a:ahLst/>
                <a:rect l="l" t="t" r="r" b="b"/>
                <a:pathLst>
                  <a:path w="1302" h="228">
                    <a:moveTo>
                      <a:pt x="0" y="36"/>
                    </a:moveTo>
                    <a:lnTo>
                      <a:pt x="90" y="0"/>
                    </a:lnTo>
                    <a:lnTo>
                      <a:pt x="210" y="108"/>
                    </a:lnTo>
                    <a:lnTo>
                      <a:pt x="288" y="174"/>
                    </a:lnTo>
                    <a:lnTo>
                      <a:pt x="390" y="114"/>
                    </a:lnTo>
                    <a:lnTo>
                      <a:pt x="510" y="162"/>
                    </a:lnTo>
                    <a:lnTo>
                      <a:pt x="606" y="60"/>
                    </a:lnTo>
                    <a:lnTo>
                      <a:pt x="846" y="96"/>
                    </a:lnTo>
                    <a:lnTo>
                      <a:pt x="1002" y="114"/>
                    </a:lnTo>
                    <a:lnTo>
                      <a:pt x="1164" y="204"/>
                    </a:lnTo>
                    <a:lnTo>
                      <a:pt x="1206" y="228"/>
                    </a:lnTo>
                    <a:lnTo>
                      <a:pt x="1302" y="210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162"/>
              <p:cNvSpPr/>
              <p:nvPr/>
            </p:nvSpPr>
            <p:spPr>
              <a:xfrm>
                <a:off x="3485880" y="4346280"/>
                <a:ext cx="4305240" cy="190080"/>
              </a:xfrm>
              <a:custGeom>
                <a:avLst/>
                <a:gdLst/>
                <a:ahLst/>
                <a:rect l="l" t="t" r="r" b="b"/>
                <a:pathLst>
                  <a:path w="2712" h="120">
                    <a:moveTo>
                      <a:pt x="0" y="120"/>
                    </a:moveTo>
                    <a:lnTo>
                      <a:pt x="168" y="96"/>
                    </a:lnTo>
                    <a:lnTo>
                      <a:pt x="204" y="66"/>
                    </a:lnTo>
                    <a:lnTo>
                      <a:pt x="324" y="108"/>
                    </a:lnTo>
                    <a:lnTo>
                      <a:pt x="534" y="96"/>
                    </a:lnTo>
                    <a:lnTo>
                      <a:pt x="618" y="96"/>
                    </a:lnTo>
                    <a:lnTo>
                      <a:pt x="762" y="42"/>
                    </a:lnTo>
                    <a:lnTo>
                      <a:pt x="906" y="0"/>
                    </a:lnTo>
                    <a:lnTo>
                      <a:pt x="1020" y="0"/>
                    </a:lnTo>
                    <a:lnTo>
                      <a:pt x="1194" y="42"/>
                    </a:lnTo>
                    <a:lnTo>
                      <a:pt x="1410" y="60"/>
                    </a:lnTo>
                    <a:lnTo>
                      <a:pt x="1512" y="96"/>
                    </a:lnTo>
                    <a:lnTo>
                      <a:pt x="1680" y="78"/>
                    </a:lnTo>
                    <a:lnTo>
                      <a:pt x="1902" y="48"/>
                    </a:lnTo>
                    <a:lnTo>
                      <a:pt x="2040" y="36"/>
                    </a:lnTo>
                    <a:lnTo>
                      <a:pt x="2166" y="54"/>
                    </a:lnTo>
                    <a:lnTo>
                      <a:pt x="2208" y="78"/>
                    </a:lnTo>
                    <a:lnTo>
                      <a:pt x="2466" y="84"/>
                    </a:lnTo>
                    <a:lnTo>
                      <a:pt x="2604" y="108"/>
                    </a:lnTo>
                    <a:lnTo>
                      <a:pt x="2712" y="108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163"/>
              <p:cNvSpPr/>
              <p:nvPr/>
            </p:nvSpPr>
            <p:spPr>
              <a:xfrm>
                <a:off x="3314520" y="3212640"/>
                <a:ext cx="4467240" cy="580680"/>
              </a:xfrm>
              <a:custGeom>
                <a:avLst/>
                <a:gdLst/>
                <a:ahLst/>
                <a:rect l="l" t="t" r="r" b="b"/>
                <a:pathLst>
                  <a:path w="2814" h="366">
                    <a:moveTo>
                      <a:pt x="0" y="282"/>
                    </a:moveTo>
                    <a:lnTo>
                      <a:pt x="108" y="324"/>
                    </a:lnTo>
                    <a:lnTo>
                      <a:pt x="198" y="282"/>
                    </a:lnTo>
                    <a:lnTo>
                      <a:pt x="312" y="126"/>
                    </a:lnTo>
                    <a:lnTo>
                      <a:pt x="480" y="288"/>
                    </a:lnTo>
                    <a:lnTo>
                      <a:pt x="600" y="324"/>
                    </a:lnTo>
                    <a:lnTo>
                      <a:pt x="714" y="330"/>
                    </a:lnTo>
                    <a:lnTo>
                      <a:pt x="810" y="174"/>
                    </a:lnTo>
                    <a:lnTo>
                      <a:pt x="906" y="150"/>
                    </a:lnTo>
                    <a:lnTo>
                      <a:pt x="1002" y="30"/>
                    </a:lnTo>
                    <a:lnTo>
                      <a:pt x="1116" y="102"/>
                    </a:lnTo>
                    <a:lnTo>
                      <a:pt x="1314" y="72"/>
                    </a:lnTo>
                    <a:lnTo>
                      <a:pt x="1440" y="132"/>
                    </a:lnTo>
                    <a:lnTo>
                      <a:pt x="1536" y="96"/>
                    </a:lnTo>
                    <a:lnTo>
                      <a:pt x="1710" y="174"/>
                    </a:lnTo>
                    <a:lnTo>
                      <a:pt x="1758" y="162"/>
                    </a:lnTo>
                    <a:lnTo>
                      <a:pt x="1848" y="90"/>
                    </a:lnTo>
                    <a:lnTo>
                      <a:pt x="2010" y="54"/>
                    </a:lnTo>
                    <a:lnTo>
                      <a:pt x="2148" y="0"/>
                    </a:lnTo>
                    <a:lnTo>
                      <a:pt x="2328" y="18"/>
                    </a:lnTo>
                    <a:lnTo>
                      <a:pt x="2484" y="72"/>
                    </a:lnTo>
                    <a:lnTo>
                      <a:pt x="2568" y="156"/>
                    </a:lnTo>
                    <a:lnTo>
                      <a:pt x="2676" y="258"/>
                    </a:lnTo>
                    <a:lnTo>
                      <a:pt x="2814" y="366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164"/>
              <p:cNvSpPr/>
              <p:nvPr/>
            </p:nvSpPr>
            <p:spPr>
              <a:xfrm>
                <a:off x="1247400" y="3927240"/>
                <a:ext cx="6496200" cy="542520"/>
              </a:xfrm>
              <a:custGeom>
                <a:avLst/>
                <a:gdLst/>
                <a:ahLst/>
                <a:rect l="l" t="t" r="r" b="b"/>
                <a:pathLst>
                  <a:path w="4092" h="342">
                    <a:moveTo>
                      <a:pt x="0" y="0"/>
                    </a:moveTo>
                    <a:lnTo>
                      <a:pt x="246" y="36"/>
                    </a:lnTo>
                    <a:lnTo>
                      <a:pt x="396" y="102"/>
                    </a:lnTo>
                    <a:lnTo>
                      <a:pt x="534" y="114"/>
                    </a:lnTo>
                    <a:lnTo>
                      <a:pt x="720" y="252"/>
                    </a:lnTo>
                    <a:lnTo>
                      <a:pt x="828" y="246"/>
                    </a:lnTo>
                    <a:lnTo>
                      <a:pt x="1002" y="306"/>
                    </a:lnTo>
                    <a:lnTo>
                      <a:pt x="1134" y="282"/>
                    </a:lnTo>
                    <a:lnTo>
                      <a:pt x="1230" y="276"/>
                    </a:lnTo>
                    <a:lnTo>
                      <a:pt x="1416" y="342"/>
                    </a:lnTo>
                    <a:lnTo>
                      <a:pt x="1542" y="312"/>
                    </a:lnTo>
                    <a:lnTo>
                      <a:pt x="1650" y="276"/>
                    </a:lnTo>
                    <a:lnTo>
                      <a:pt x="1824" y="300"/>
                    </a:lnTo>
                    <a:lnTo>
                      <a:pt x="1962" y="312"/>
                    </a:lnTo>
                    <a:lnTo>
                      <a:pt x="2196" y="234"/>
                    </a:lnTo>
                    <a:lnTo>
                      <a:pt x="2406" y="204"/>
                    </a:lnTo>
                    <a:lnTo>
                      <a:pt x="2664" y="240"/>
                    </a:lnTo>
                    <a:lnTo>
                      <a:pt x="2916" y="282"/>
                    </a:lnTo>
                    <a:lnTo>
                      <a:pt x="3258" y="246"/>
                    </a:lnTo>
                    <a:lnTo>
                      <a:pt x="3366" y="216"/>
                    </a:lnTo>
                    <a:lnTo>
                      <a:pt x="3534" y="222"/>
                    </a:lnTo>
                    <a:lnTo>
                      <a:pt x="3672" y="240"/>
                    </a:lnTo>
                    <a:lnTo>
                      <a:pt x="3858" y="246"/>
                    </a:lnTo>
                    <a:lnTo>
                      <a:pt x="3972" y="282"/>
                    </a:lnTo>
                    <a:lnTo>
                      <a:pt x="4092" y="306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165"/>
              <p:cNvSpPr/>
              <p:nvPr/>
            </p:nvSpPr>
            <p:spPr>
              <a:xfrm>
                <a:off x="96264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Text Box 166"/>
              <p:cNvSpPr/>
              <p:nvPr/>
            </p:nvSpPr>
            <p:spPr>
              <a:xfrm>
                <a:off x="177228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6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167"/>
              <p:cNvSpPr/>
              <p:nvPr/>
            </p:nvSpPr>
            <p:spPr>
              <a:xfrm>
                <a:off x="256464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6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168"/>
              <p:cNvSpPr/>
              <p:nvPr/>
            </p:nvSpPr>
            <p:spPr>
              <a:xfrm>
                <a:off x="336456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7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169"/>
              <p:cNvSpPr/>
              <p:nvPr/>
            </p:nvSpPr>
            <p:spPr>
              <a:xfrm>
                <a:off x="415512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7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170"/>
              <p:cNvSpPr/>
              <p:nvPr/>
            </p:nvSpPr>
            <p:spPr>
              <a:xfrm>
                <a:off x="498384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8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Text Box 171"/>
              <p:cNvSpPr/>
              <p:nvPr/>
            </p:nvSpPr>
            <p:spPr>
              <a:xfrm>
                <a:off x="577440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Text Box 172"/>
              <p:cNvSpPr/>
              <p:nvPr/>
            </p:nvSpPr>
            <p:spPr>
              <a:xfrm>
                <a:off x="658404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173"/>
              <p:cNvSpPr/>
              <p:nvPr/>
            </p:nvSpPr>
            <p:spPr>
              <a:xfrm>
                <a:off x="7538040" y="49431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174"/>
              <p:cNvSpPr/>
              <p:nvPr/>
            </p:nvSpPr>
            <p:spPr>
              <a:xfrm>
                <a:off x="7987680" y="3396960"/>
                <a:ext cx="91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2.1 perc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175"/>
              <p:cNvSpPr/>
              <p:nvPr/>
            </p:nvSpPr>
            <p:spPr>
              <a:xfrm>
                <a:off x="7987680" y="3606480"/>
                <a:ext cx="91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.2 perc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176"/>
              <p:cNvSpPr/>
              <p:nvPr/>
            </p:nvSpPr>
            <p:spPr>
              <a:xfrm>
                <a:off x="7987680" y="4082760"/>
                <a:ext cx="91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.8 perc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Text Box 177"/>
              <p:cNvSpPr/>
              <p:nvPr/>
            </p:nvSpPr>
            <p:spPr>
              <a:xfrm>
                <a:off x="7987680" y="4273200"/>
                <a:ext cx="848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.4 perc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178"/>
              <p:cNvSpPr/>
              <p:nvPr/>
            </p:nvSpPr>
            <p:spPr>
              <a:xfrm>
                <a:off x="7987680" y="4463640"/>
                <a:ext cx="848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.5 perc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179"/>
              <p:cNvSpPr/>
              <p:nvPr/>
            </p:nvSpPr>
            <p:spPr>
              <a:xfrm>
                <a:off x="928440" y="4777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Text Box 180"/>
              <p:cNvSpPr/>
              <p:nvPr/>
            </p:nvSpPr>
            <p:spPr>
              <a:xfrm>
                <a:off x="928440" y="45115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Text Box 181"/>
              <p:cNvSpPr/>
              <p:nvPr/>
            </p:nvSpPr>
            <p:spPr>
              <a:xfrm>
                <a:off x="858600" y="424476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182"/>
              <p:cNvSpPr/>
              <p:nvPr/>
            </p:nvSpPr>
            <p:spPr>
              <a:xfrm>
                <a:off x="858600" y="3958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Text Box 183"/>
              <p:cNvSpPr/>
              <p:nvPr/>
            </p:nvSpPr>
            <p:spPr>
              <a:xfrm>
                <a:off x="858600" y="36730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Text Box 184"/>
              <p:cNvSpPr/>
              <p:nvPr/>
            </p:nvSpPr>
            <p:spPr>
              <a:xfrm>
                <a:off x="858600" y="339696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185"/>
              <p:cNvSpPr/>
              <p:nvPr/>
            </p:nvSpPr>
            <p:spPr>
              <a:xfrm>
                <a:off x="858600" y="31111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186"/>
              <p:cNvSpPr/>
              <p:nvPr/>
            </p:nvSpPr>
            <p:spPr>
              <a:xfrm>
                <a:off x="858600" y="28252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187"/>
              <p:cNvSpPr/>
              <p:nvPr/>
            </p:nvSpPr>
            <p:spPr>
              <a:xfrm>
                <a:off x="858600" y="25588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Text Box 188"/>
              <p:cNvSpPr/>
              <p:nvPr/>
            </p:nvSpPr>
            <p:spPr>
              <a:xfrm>
                <a:off x="858600" y="23396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Text Box 189"/>
              <p:cNvSpPr/>
              <p:nvPr/>
            </p:nvSpPr>
            <p:spPr>
              <a:xfrm>
                <a:off x="1063440" y="1330200"/>
                <a:ext cx="644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erc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Text Box 190"/>
              <p:cNvSpPr/>
              <p:nvPr/>
            </p:nvSpPr>
            <p:spPr>
              <a:xfrm>
                <a:off x="858600" y="207288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191"/>
              <p:cNvSpPr/>
              <p:nvPr/>
            </p:nvSpPr>
            <p:spPr>
              <a:xfrm>
                <a:off x="858600" y="17870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192"/>
              <p:cNvSpPr/>
              <p:nvPr/>
            </p:nvSpPr>
            <p:spPr>
              <a:xfrm>
                <a:off x="858600" y="1491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Text Box 193"/>
              <p:cNvSpPr/>
              <p:nvPr/>
            </p:nvSpPr>
            <p:spPr>
              <a:xfrm>
                <a:off x="7120800" y="1330200"/>
                <a:ext cx="81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cess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Text Box 194"/>
              <p:cNvSpPr/>
              <p:nvPr/>
            </p:nvSpPr>
            <p:spPr>
              <a:xfrm>
                <a:off x="1682280" y="1920600"/>
                <a:ext cx="51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l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195"/>
              <p:cNvSpPr/>
              <p:nvPr/>
            </p:nvSpPr>
            <p:spPr>
              <a:xfrm>
                <a:off x="1664280" y="411120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hi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Text Box 196"/>
              <p:cNvSpPr/>
              <p:nvPr/>
            </p:nvSpPr>
            <p:spPr>
              <a:xfrm>
                <a:off x="4539960" y="3578040"/>
                <a:ext cx="70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ispan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97"/>
              <p:cNvSpPr/>
              <p:nvPr/>
            </p:nvSpPr>
            <p:spPr>
              <a:xfrm>
                <a:off x="4569480" y="4425480"/>
                <a:ext cx="1363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hite non-Hispan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98"/>
              <p:cNvSpPr/>
              <p:nvPr/>
            </p:nvSpPr>
            <p:spPr>
              <a:xfrm>
                <a:off x="5949000" y="3825720"/>
                <a:ext cx="1747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sian and Pacific Isl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Line 199"/>
            <p:cNvSpPr/>
            <p:nvPr/>
          </p:nvSpPr>
          <p:spPr>
            <a:xfrm flipH="1">
              <a:off x="7781400" y="3517560"/>
              <a:ext cx="25740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00"/>
            <p:cNvSpPr/>
            <p:nvPr/>
          </p:nvSpPr>
          <p:spPr>
            <a:xfrm flipH="1">
              <a:off x="7772040" y="3717720"/>
              <a:ext cx="266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01"/>
            <p:cNvSpPr/>
            <p:nvPr/>
          </p:nvSpPr>
          <p:spPr>
            <a:xfrm flipH="1">
              <a:off x="7781760" y="4222440"/>
              <a:ext cx="2858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02"/>
            <p:cNvSpPr/>
            <p:nvPr/>
          </p:nvSpPr>
          <p:spPr>
            <a:xfrm flipH="1">
              <a:off x="7733880" y="439380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03"/>
            <p:cNvSpPr/>
            <p:nvPr/>
          </p:nvSpPr>
          <p:spPr>
            <a:xfrm flipH="1" flipV="1">
              <a:off x="7753320" y="4507920"/>
              <a:ext cx="28584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Text Box 204"/>
          <p:cNvSpPr/>
          <p:nvPr/>
        </p:nvSpPr>
        <p:spPr>
          <a:xfrm>
            <a:off x="598320" y="5227560"/>
            <a:ext cx="831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ote: The data points represent the midpoints of the respective years. The latest recession began in July 1990</a:t>
            </a:r>
            <a:br>
              <a:rPr sz="1200"/>
            </a:b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nd ended in March 1991. Data for blacks are not available from 1960 to 1965. Data for the other race and</a:t>
            </a:r>
            <a:br>
              <a:rPr sz="1200"/>
            </a:b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ispanic origin groups are shown from the first year available. Hispanics may be of any r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05"/>
          <p:cNvSpPr/>
          <p:nvPr/>
        </p:nvSpPr>
        <p:spPr>
          <a:xfrm>
            <a:off x="1911240" y="5861160"/>
            <a:ext cx="58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verty Rates by Race and Hispanic Origin: 1959 to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06"/>
          <p:cNvSpPr/>
          <p:nvPr/>
        </p:nvSpPr>
        <p:spPr>
          <a:xfrm>
            <a:off x="463680" y="6118200"/>
            <a:ext cx="868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ource: Figure 3 in Joseph Dalaker. 2001.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Poverty in the United States: 2000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. Current Population Reports Series P60-214. Washington, DC: U.S. Government Printing Office. Also accessible at http://www.census.gov/hhes/www/poverty00.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by Social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865080" y="1379520"/>
            <a:ext cx="54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fe Ch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1214280" y="2178000"/>
            <a:ext cx="646596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er’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fe chances are opportunities to obtain material goods, positive living conditions, and favorable life experi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ccupying a higher position in a society improves your life changes and brings greater access to social re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1214280" y="217800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vement of individuals or groups from one position of a society’s stratification system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versus Closed Stratifi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192320" y="2260440"/>
            <a:ext cx="678312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atification systems indicate the amount of social mobility in a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Stratif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open systems, individual position is influenced by achieved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pen systems encourage competition among members of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pter 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Understanding Stra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Stratification by Social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Stratification in the World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Social Policy and Stratification: Rethinking Welfare in North America and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versus Closed Stratifi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430280" y="2451240"/>
            <a:ext cx="678348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Stratif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losed systems present little or no possibility of moving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closed systems, individual position is based on ascribed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Social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1430280" y="2498760"/>
            <a:ext cx="6783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Mobil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mobility is movement within the same range of presti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ical Mobil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mobility is movement from one position to another of a different rank, and this movement can be upward or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Social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430280" y="2498760"/>
            <a:ext cx="678348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generational Mobil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 mobility refers to changes in the social position of children relative to their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generational Mobil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agenerational mobility refers to changes in social position within a person’s adul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 Mobility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430280" y="2498760"/>
            <a:ext cx="678348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pation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ccupational mobility is more common among ma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0 to 70 percent of sons are employed in higher- ranking occupations than their fa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movement covers a “short distanc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bility among African Americans remains limited due to racial discri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 Mobility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430280" y="2498760"/>
            <a:ext cx="678348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pac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impact of formal schooling is a significant means of intergenerational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ree-fourths of college-educated men achieved some upward mobility compared with 12% of those receiving no sch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 Mobility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430280" y="2498760"/>
            <a:ext cx="678348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pact of 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ciologists have documented the fact that the class system is more rigid for African Americans than it is for member of other racial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cumulative disadvantage of discrimination plays a significant role in the disparity between African Americans and wh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Mo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 Mobility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430280" y="2498760"/>
            <a:ext cx="678348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pact of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omen are more likely than men to find several factors affecting their upward mobility, including poorer salaries than men, a greater preponderance of lower-level jobs, limited prospects for advancement, and lack of financing for self-employment ven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in the World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gacy of Colon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430280" y="2498760"/>
            <a:ext cx="67834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a foreign power maintains political, social, economic, and cultural dominance over a people for an extended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veloping country’s dependence on more industrialized nations for managerial and technical expertise, investment capital and manufactured g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in the World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gacy of Colon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430280" y="2498760"/>
            <a:ext cx="6783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cy the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as developing countries make economic advances, they remain weak and subservient to core nations and corporations within an increasingly intertwined global ec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worldwide integration of government policies, cultures, social movements, and financial markets through trade and exchange of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in the World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430280" y="2498760"/>
            <a:ext cx="6783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View: The combination of skilled technology and management provided by multinationals and the relatively cheap labor available in developing nations is ideal for global enterp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View: Emphasizes that multinationals exploit local workers to maximize profits. Conflict view concludes that, on the whole, multinational corporations have a negative social impact on workers in both industrialized and developing 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828800" y="2590920"/>
            <a:ext cx="661356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cribed Statu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cial position assigned to a person without regard for that person’s unique characteristics or tal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ieved 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social position attained by a person largely through his or her own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569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s of St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atification in the World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750960" y="1549440"/>
            <a:ext cx="80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430280" y="2498760"/>
            <a:ext cx="678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r-reaching process by which peripheral nations move from traditional or less developed institutions to those characteristic of more developed socie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Policy and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750960" y="1549440"/>
            <a:ext cx="8061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hinking Welfare in North Amer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430280" y="2610000"/>
            <a:ext cx="678348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overnments in all parts of the world are searching for the right solution to welf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 much subsidy should they prov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 much responsibility should fall on the shoulders of th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Policy and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750960" y="1549440"/>
            <a:ext cx="8061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hinking Welfare in North Amer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430280" y="2610000"/>
            <a:ext cx="678348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1996, a historic “workfare” act was passed in the United States that ended the long-standing federal guarantee of assistance to every poor family that meets eligibility requirements. It required that all able-bodied adults work after two years of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ther countries vary widely in their commitment to social servic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Policy and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750960" y="1454040"/>
            <a:ext cx="8061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hinking Welfare in North Amer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430280" y="2546280"/>
            <a:ext cx="67834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ological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sociologists view the debate over welfare from a conflict perspec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rom a conflict perspective, the backlash against welfare recipients reflects deep fears and hostility toward the nation’s urban and predominantly African American and Hispanic under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x breaks and other “corporate welfare” granted by the government for corporations should also be examined clos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Policy and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750960" y="1454040"/>
            <a:ext cx="8061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hinking Welfare in North Amer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1430280" y="2467080"/>
            <a:ext cx="72658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Initi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re are some success stories in the new “workfare” program of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ever, it is too early to see how a dipping economy and prospects for the hard-core jobless will affect the program in the long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dical coverage and child care remain issues for the the working p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North America and Europe, solutions are often left to the private sector while government policy initiatives at the national level all but dis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Policy and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197000" y="2178000"/>
            <a:ext cx="696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640560" y="623412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000160" y="1192320"/>
          <a:ext cx="5743800" cy="4663800"/>
        </p:xfrm>
        <a:graphic>
          <a:graphicData uri="http://schemas.openxmlformats.org/drawingml/2006/table">
            <a:tbl>
              <a:tblPr/>
              <a:tblGrid>
                <a:gridCol w="2359080"/>
                <a:gridCol w="338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Text Box 48"/>
          <p:cNvSpPr/>
          <p:nvPr/>
        </p:nvSpPr>
        <p:spPr>
          <a:xfrm>
            <a:off x="615960" y="5845320"/>
            <a:ext cx="85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mployment Rates by Countr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531720" y="6149880"/>
            <a:ext cx="861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ource: U.S. Bureau of the Census. 2001.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Statistical Abstract of the United States 2001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. Washington, DC: U.S. Government Printing Office. Table 1353 on p. 848. Also accessible at http://www.census.gov/prod/2002pubs/01statab/stat-ab01.ht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828800" y="2590920"/>
            <a:ext cx="661356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lavery is the most extreme form of legalized social inequality. Enslaved individual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w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ther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stes are hereditary systems of rank, usually religiously dictated, that tend to be immo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569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s of St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33400" y="2130480"/>
            <a:ext cx="66135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es are social rankings based on economic position in which achieved characteristics can influence social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United States class system is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upper cla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upper-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lower-middle clas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low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77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s of St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33400" y="2130480"/>
            <a:ext cx="661356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rl Marx’s View of Class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rx believed that class differentiation is the crucial determinant of social, economic, and political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rx viewed class struggle as the result of the conflict between owners and work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77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pectives on St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733400" y="2130480"/>
            <a:ext cx="661356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 Weber’s View of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ber insisted that no single characteristic totally defines a person’s position within the stratification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ber identified three distinct components of strat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77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pectives on St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4560" y="15192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standing Stra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733400" y="2130480"/>
            <a:ext cx="661356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. A differential system of rewards and punishments is necessary for the efficient operation of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. Competition for scarce resources results in political, economic, and social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77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Stratification Univers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21:42:54Z</dcterms:created>
  <dc:creator>Greg Backes</dc:creator>
  <dc:description/>
  <dc:language>en-US</dc:language>
  <cp:lastModifiedBy>Personal</cp:lastModifiedBy>
  <dcterms:modified xsi:type="dcterms:W3CDTF">2013-10-17T00:01:33Z</dcterms:modified>
  <cp:revision>75</cp:revision>
  <dc:subject/>
  <dc:title>Slide 1</dc:title>
</cp:coreProperties>
</file>